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8444DE-B771-4AB9-9F10-256EDD4B5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s 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22640" y="1295280"/>
            <a:ext cx="4506840" cy="533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Made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1600200"/>
            <a:ext cx="3886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ah Dav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us Computer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 Assistance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828-8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ah_Davids@strat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81280" y="464832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agy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cson, 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router (newfang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rotocols are not compatibl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key word indicating that updates cannot be received for the entry and that the entry should not be aged for subsequent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are added to routing table but not broadcast in RI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updates are not expected from gateways marked 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 key  word  indicating  that  the entry is managed by a routing protocol other than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NOT added to the routing table b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es some other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kept track of by routed so they are are not overwritten by RIP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updates are not expected from gateways marked ex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d and 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 of the /etc/gateways file has some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2net-14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external, passive and the default route can b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uted and 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cat gate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 0.0.0.0 gateway 10.1.1.100 metric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 12.0.0.0 gateway 10.1.1.112 metric 1 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 13.0.0.0 gateway 10.1.1.113 metric 1 pas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et 14.0.0.0 gateway 10.1.1.114 metric 1 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Flags    Refcnt Use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UH       7      0  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default          10.1.1.100       UG       0      0      enet/c10a13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1           10.1.1.10        U        1      3181   enet/c10a13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8.115.44       198.115.44.191   U        13     2600   enet/c4a5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3               10.1.1.113       UG       0      0      enet/c10a13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uted and 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re is no route to network 12 but you need the entry to correctly add the first passive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e XXX after the metric - needed for correct pa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nother non-passive, non-external route will change the defaul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y on RIP updates to add local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uted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entries created from defined interfaces and entries in the gateways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cat /tmp/route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0:43 ADD dst 0.0.0.0 via 10.1.1.100 metric 1 stat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0:43 ADD dst 14.0.0.0 via 10.1.1.114 metric 1 state PASSIVE|CHANGED|EXTER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0:43 ADD dst 198.115.44.0 via 198.115.44.191 metric 0 state INTERFACE|CHANGED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0:43 ADD dst 95.0.0.0 via 95.1.1.6 metric 0 state INTERFACE|CHANGED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0:43 ADD dst 172.31.0.0 via 172.31.1.3 metric 0 state INTERFACE|CHANGED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0:43 ADD dst 10.0.0.0 via 10.1.1.10 metric 0 state PASSIVE|INTERFACE|CHANGED|INTERNAL|SUBNET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uted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 deleted because no RIP updates from local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3:13 DELETE dst 0.0.0.0 via 10.1.1.100 metric 1 stat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uted 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ies added/changed/deleted based on RIP updates from local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7:27 ADD dst 198.115.51.0 via 198.115.44.1 metric 5 stat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7:32 ADD dst 198.115.55.0 via 198.115.44.1 metric 3 stat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7:32 ADD dst 192.92.20.0 via 198.115.44.1 metric 5 stat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8:42 CHANGE FROM dst 0.0.0.0 via 10.1.1.100 metric 1 stat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48:42 CHANGE TO dst 0.0.0.0 via 198.115.44.1 metric 1 state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p  5 09:51:20 DELETE dst 198.115.25.0 via 198.115.44.1 metric 5 stat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namic or static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full particip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nding RIP pack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e acting as a router in a dynamic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ust to a few other local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quie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network has several routers which can back each othe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s to specific networks may change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ynamic or static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network has only 1 router or multiple routers which cannot back each other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s cannot change dynam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09480"/>
            <a:ext cx="7772400" cy="11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 Route (OS independ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to specific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to host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ed default route if there is no host or network route that m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o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to trace the route taken by a “ping” packet through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each router’s name and the time it takes to get to th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 supported by F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nnect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s on a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rst defined interface in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define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gateway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s not on the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rst defined entry in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 that is on the router’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 -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rebus% tail /etc/enet_conf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4a5d0             198.115.44.191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255.255.255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5a5d0             95.1.1.6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6a5d0             172.31.1.90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7a5d0             172.31.1.91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10a13d0           10.1.1.10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255.255.255.0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erebus% netstat -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          Mtu   Network      Address      Ipkts   Ierrs Opkts   Oerrs Col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10a13d0  1500  10.1.1       10.1.1.10    0       0     7       0     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0            2048  127          127.0.0.1    0       0     0       0     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5a5d0    1500  95           95.1.1.6     0       0     0       0     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4a5d0    1500  198.115.44   198.115.44.1 77      0     25      0     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7a5d0    1500  172.31       172.31.1.91  0       0     0       0     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et/c6a5d0    1500  172.31       172.31.1.90  0       0     0       0     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 -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# route add 11.0.0.0 172.31.1.1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net 11.0.0.0: gateway 172.3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# netstat -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   Gateway              Flags    Refcnt Use       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   127.0.0.1            UH       0      0          lo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  198.115.44.1         UG       1      162        enet/c4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1               10.1.1.10            U        0      0          enet/c10a13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  <a:ea typeface="Courier New"/>
              </a:rPr>
              <a:t>11                   172.31.1.1           UG       0      0          enet/c6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98.115.44           198.115.44.191       U        0      0          enet/c4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    172.31.1.91          U        0      0          enet/c7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    172.31.1.90          U        0      0          enet/c6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5                   95.1.1.6             U        0      0          enet/c5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 -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# ping 172.31.1.92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 answer from 172.31.1.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# netstat -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   Gateway              Flags    Refcnt Use       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   127.0.0.1            UH       0      0          lo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  198.115.44.1         UG       1      188        enet/c4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1               10.1.1.10            U        0      0          enet/c10a13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                 172.31.1.1           UG       0      0          enet/c6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98.115.44           198.115.44.191       U        0      0          enet/c4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  <a:ea typeface="Courier New"/>
              </a:rPr>
              <a:t>172.31               172.31.1.91          U        0 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  <a:ea typeface="Courier New"/>
              </a:rPr>
              <a:t>         enet/c7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    172.31.1.90          U        0      0          enet/c6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5                   95.1.1.6             U        0      0          enet/c5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 -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981080"/>
            <a:ext cx="7772400" cy="42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# ping 11.1.1.1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o answer from 11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# netstat -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   Gateway              Flags    Refcnt Use       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   127.0.0.1            UH       0      0          lo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  198.115.44.1         UG       1      262        enet/c4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.1.1               10.1.1.10            U        0      0          enet/c10a13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3300"/>
                </a:solidFill>
                <a:latin typeface="Courier New"/>
                <a:ea typeface="Courier New"/>
              </a:rPr>
              <a:t>11                   172.31.1.1           UG       0 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  <a:ea typeface="Courier New"/>
              </a:rPr>
              <a:t>         enet/c6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98.115.44           198.115.44.191       U        0      0          enet/c4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    172.31.1.91          U        0      2          enet/c7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    172.31.1.90          U        0      0          enet/c6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5                   95.1.1.6             U        0      0          enet/c5a5d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127.0.0.1    UH        0       0  lo0        46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.3.3.0     10.3.3.9     U         1   39503  lan1       4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.3.3.0     10.3.3.7     U         0       0  lan0       4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1           10.3.3.250   UG        0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1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  lan0       43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IP address not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able searched for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d to router at data link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d to destination at network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900680" y="2085840"/>
            <a:ext cx="32958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 sends to all neighboring routers the distance (number of hops)  to target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rs add 1 to the hop count and add routes to their own tables if they don’t already have a route with a lower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 count &gt; some defined value implies the network is unrea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well when routes are relatively 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routes change (routers and links going up and down) can take a long time to “converg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loops caused by different routers having different routing tables cause packets to be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ime can be up to 10 min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ts of broad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hosts will generate broadcast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Information Protocol (R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Gateway Routing Protocol (IG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-to-Gateway Protocol (GG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Gateway Protocol (EG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uter maintains a copy of the entire network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the shortest path to the target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metrics can be associated with each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, latency, cost,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s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changes of directly connected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change messages from other routers that it rece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well with complex dynamic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requirements larger than distance ve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hortest Path First (OS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System to Intermediate System (ES-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System to Intermediate System  (IS-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Control Message Protocol (IC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routing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etween router and host system to correct host systems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irect messag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a lot of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, RIP-2, IGP, EGP, BGP, OSPF, IG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_OS, STCP, FTX &amp;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C 1058 (19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outer broadcasts all known networks every 30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DP messages to port 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ing router adds routes to its routing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if it doesn’t have a route with a lower hop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s 1 to the hop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oute not mentioned in 180 seconds marked as unreach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oute not mentioned in 300 seconds discarded from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number of hops is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of 16 means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n around a lo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to 15 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to conv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ne to looping during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scale well  into larg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Protoco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 vers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net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s supp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changes via ICMP re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“routing”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13256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134.111.44.240     UG          1   185574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134.111.44.196     UG          0        0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159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  134.111.44.78      U           0     4003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 netstat -n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or network that is the destination of this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the -n destination will be resolved to a host or network name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for the destination are sent to this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the -n gateway will be resolved to a ho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 netstat -n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i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hos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are addressed to a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reated route (via IC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modified  route (via IC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 netstat -nr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urrent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times a packet was sent on this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322800" y="1592280"/>
            <a:ext cx="2479680" cy="365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have 1 hour                  I’m not that 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ty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/deleting/flushing static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command - to add/delete static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add [host|net] destination gateway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may be IP address or name or the keyword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may be IP address o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 can just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delete [host|net] destination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-flush [-numeri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es all routes except local network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/deleting static route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oute add net 10.0.0.0 134.111.44.196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net 10.0.0.0: gateway 134.111.44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13256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134.111.44.240     UG          1   185574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0               134.111.44.196     UG          0        0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159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  134.111.44.78      U           0     4003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oute delete net 10.0.0.0 134.111.44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 net 10.0.0.0: gateway 134.111.44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ing static route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oute add net 10.0.0.0 134.111.44.196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net 10.0.0.0: gateway 134.111.44.1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oute -flush -nume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shing routing t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  134.111.44.240      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   134.111.44.196      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13256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159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  134.111.44.78      U           0     4003  #e4.20.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routing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routing redir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 a redirect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ing us to use a router not a local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router that is not the router we used for the indicated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ing us that we are the correct router for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 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reated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ynamically created (new)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due to redir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times where the gateway to the destination was dynamicall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 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s found unreach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times there was no LOCAL route to the dest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only happen if there is no default route. If one of the routers on the path sends an unreachable message it will not be record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 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of a wild card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defaul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statistic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route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34.111.45.12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34.111.45.12: 64 bytes (56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34.111.45.12 PING Statistics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packets transmitted, 0 packets received, 100% packe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  <a:ea typeface="Courier New"/>
              </a:rPr>
              <a:t>1  dynamically created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new gateways due to redir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uses of a wildcard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nun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s - RIP/RIP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route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34.111.45.12    134.111.44.250     UGHD        0        0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134.111.44.240     UG          0    10365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23       U           0       10  #e4.2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5.12    134.111.44.240     UGH         0        0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34.111.45.12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34.111.45.12: 64 bytes (56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34.111.45.12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packets transmitted, 0 packets received, 10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5.12    134.111.44.250     UGH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1        1  #e4.20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 dynamically create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  new gateway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achable network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2.1.1.1: 64 bytes (56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to: Network is unreach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: wrote 12.1.1.1 64 chars, ret=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dto: Network is unreach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 dynamically create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 new gateway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2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9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dcard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2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y  15:32: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98.115.44.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98.115.44.38: 64 bytes (56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4 bytes from 198.115.44.38: icmp_seq=0. time=8.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4 bytes from 198.115.44.38: icmp_seq=19. time=7.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98.115.44.38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 packets transmitted, 20 packets received, 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nd-trip (ms)  min/avg/max = 7/8/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dcard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33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dcard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98.115.44.38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98.115.44.38: 64 bytes (56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4 bytes from 198.115.44.38: icmp_seq=0. time=10.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4 bytes from 198.115.44.38: icmp_seq=1. time=8.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98.115.44.38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packets transmitted, 2 packets received, 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nd-trip (ms)  min/avg/max = 8/9/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y  15:36: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34 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P forwarding i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received with the correct MAC address but the wrong IP address will be forwarded to an interface that can reach the indicated IP dest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controlled by the variable tcpos_ipforwarding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of 1 allows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of 0 stops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bnet mask doesn’t match rest of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broadcast address interpreted as a unicas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odule’s subnet mask is more restrictive we will forward packet - possibly to default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odule’s subnet mask is less restrictive we will interpret the IP address as being on the local subnet and try to forward it. Issuing an ARP fir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statistics will indicate if we are forwarding packets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 not make a very good rou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nun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rhymes with t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, rhymes with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pronunciation is also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stral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rhymes with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pronunciation is a “bad”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ing value of tcpos_ipforwarding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: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display tcpos_ipforwarding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C9198F0  0  00000001                     |....            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the value of tcpos_ipforwarding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: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set_longword tcpos_ipforwarding$ 0 -chec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      from     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C9198F0  00000001  00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: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set_longword tcpos_ipforwarding$ 1 -check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      from     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C9198F0  00000000  0000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42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statistics -display_ze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machine is configured as a host, it is not able to forward packet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255    default ttl on ip/icmp data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62410211    datagrams received (incl. erro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datagrams with ip uni-cast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datagrams with ip multicast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    datagrams with invalid ip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datagrams with header/options/checksum/ttl err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bad header checks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size &lt; minim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data size &lt; data 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header length &lt; data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data length &lt; header 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datagrams with unknown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36    datagrams discarded (no errors and not waiting re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emb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1423    datagrams forwar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62204439    datagrams delive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chine is configured as a host, it is not able to forward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e this see otp-6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way to tell is forwarding is being done is to check the value of tcpos_ipforwarding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will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will not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s with invalid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received with an IP address that doesn’t match any interface on the system but does have a correct MAC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is not enabled and someone is using us as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s discarded (no errors and not waiting re-assemb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incremented if ip forwarding is enabled but there is no route (implies no default ro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grams forw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of the packets forwarded or attempted to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ro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ty to trace the route taken by a “ping” packet through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each router’s name and the time it takes to get to the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T supported by TCP_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nnect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s on a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rst defined interface in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u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defined (ifconfig -add_name) 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gateway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s not on the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first defined entry in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ble that is on the router’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selec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5800" y="1981080"/>
            <a:ext cx="7772400" cy="439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ifconfig %phx_test#e4.20.13 172.31.1.1 -state up -netmask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phx_test#e4.20.13: &lt;UP,BROADCAST,NOTRAILERS,RUNN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.1.1 netmask 0xffff0000 broadcast 172.31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ifconfig %phx_test#e4.22.9 172.31.1.123 -state up -netmask 255.255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%phx_test#e4.22.9: &lt;UP,BROADCAST,NOTRAILERS,RUNNIN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.1.123 netmask 0xffff0000 broadcast 172.31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c:  "Device Name"                     Name:  "Interface Nam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 Mtu   Network            Ipkts Ierrs    Opkts Oerrs  Coll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c:  loopback                          Name:  127.0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536 loopback               0     0        0     0     0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c:  #e4.20.13                         Name:  172.3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500 172.31                 0     0        1     0 26447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c:  #e4.22.9                          Name:  172.31.1.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 1500 172.31                 0     0        1     0     0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selec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23       U           0        0  #e4.2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selection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route add 10.0.0.0 172.31.1.10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net 10.0.0.0: gateway 172.31.1.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0               172.31.1.100       UG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23       U           0        0  #e4.2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is the act of moving packets from a source network to a destination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3 of the ISO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 we nee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the destination system has an IP address with a different (sub)net than the sending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sel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onnect rou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72.31.1.101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72.31.1.101: 64 bytes (56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72.31.1.101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 packets transmitted, 0 packets received, 10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172.31.1.100       UG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23       U           0 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5  #e4.2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- TCP_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sel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gateway rout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10.1.1.1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0.1.1.1: 64 bytes (56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0.1.1.1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6 packets transmitted, 0 packets received, 10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  Flags     Refs     Use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  UH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172.31.1.100       UG          0 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6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23       U           0        5  #e4.2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1         U           0        0  #e4.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s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s suppo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changes via ICMP redi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running in.r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1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Gateway           Flags  Refcnt Use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127.0.0.1         UH     0      0      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134.111.44.240    UG     0      0   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10.3.3.3          U      4      26689451   fddi/c24a0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9.115.44     199.115.44.211    U      0      1          enet/c20a13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134.111.44.211    U      7      62355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172.31.1.2        U      0      106        enet/c20a11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n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or network that is the destination of this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the -n destination will be resolved to a host or network name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for the destination are sent to this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the -n gateway will be resolved to a hos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n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i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hos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are addressed to a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reated route (via IC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no M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nr -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urrent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times a packet was sent on this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&amp; deleting static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command - to add/delete static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add [host|net] destination gateway 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 may be IP address or name or the keyword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may be IP address o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 can be jus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delete [ host|net] destination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-f [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es all routes except local network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/deleting static route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09480" y="3505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S example used IP address, this uses names but it could just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been rever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0200" indent="-22860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o use names the names must be resolvable. gateway name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 the host table or resolved via a DNS. The network name must be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etworks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63560" y="2151000"/>
            <a:ext cx="61117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n incoming packet interpret the layer 3 address and select 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 frames based on route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selectively don’t forward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mited broadcasts not forw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ubnet traffic not forwa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ct as firewall to filter certain types of packets or packets from/to selected destinations or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shing static route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route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shing routing t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  cisco               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                 cisco               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route -f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ushing routing tabl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   134.111.44.240      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                   134.111.44.240      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routing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ctly the same as TCP_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bad routing r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3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d routing redir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d a redirect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ing us to use a router not a local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a router that is not the router we used for the indicated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ing us that we are the correct router for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reated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ynamically created (new)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due to redir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times where the gateway to the destination was dynamicall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tions found unreach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times there was no LOCAL route to the dest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an only happen if there is no default route. If one of the routers on the path sends an unreachable message it will not be recorde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tat -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of a wild card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default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statistic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bad routing r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3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rout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bad routing r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3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ping 134.111.45.12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CMP Host redirect from gateway cisco (134.111.44.2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 nb1 (134.111.44.250) for windowrock (134.111.45.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 answer from 134.111.45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the ICMP redirect message comes back before the ping times out you will see it. If it doesn’t you won’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route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bad routing r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 dynamically create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6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Gateway          Flags  Refcnt Use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127.0.0.1        UH     0      0    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34.111.45.12     134.111.44.250   UGHD   0      1 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134.111.44.240   UG     0      1 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   134.111.44.211   U      7      62450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route add 134.111.45.12 134.111.44.240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host 134.111.45.12: gateway 134.111.44.2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 Gateway           Flags  Refcnt Use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 127.0.0.1         UH     0      0   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34.111.45.12     134.111.44.240    UGH    0      0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 134.111.44.240    UG     0      1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10.3.3.3          U      3      26877409fddi/c24a0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9.115.44        199.115.44.211    U      0      1       enet/c20a13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   134.111.44.211    U      7      62753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 172.31.1.2        U      0      106     enet/c20a11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 3 switching - new buzz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ly just a faster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router no longer in v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y on proprietary protocols to route packets faster (at layer 2 spee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sil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s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s long lived connections (10+ pack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s up a virtual circuit to route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ping 134.111.45.12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CMP Host redirect from gateway cisco (134.111.44.24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o nb1 (134.111.44.250) for windowrock (134.111.45.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o answer from 134.111.45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bad routing re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 dynamically create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 new gateway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56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gateway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hera# netstat -n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 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stination      Gateway          Flags  Refcnt Use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27.0.0.1        127.0.0.1        UH     0      0         lo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34.111.45.12    134.111.44.250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Courier New"/>
              </a:rPr>
              <a:t>UGH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   0      3  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       134.111.44.240   UG     0      1    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10.3.3.3         U      3      26895963  fddi/c24a0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9.115.44       199.115.44.211   U      0      1         enet/c20a13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34.111.44       134.111.44.211   U      7      62815     enet/c20a12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2.31           172.31.1.2       U      0      106       enet/c20a11d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no M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achable network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ra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5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ra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-s 1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2.1.1.1: 56 data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2.1.1.1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3 packets transmitted, 0 packets received, 10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achable networks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ra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6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5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ra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telnet 12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ing 12.1.1.1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: connect: </a:t>
            </a:r>
            <a:r>
              <a:rPr b="0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Network is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&gt; 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hera# 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1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dcard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81080"/>
            <a:ext cx="777240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6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ping -s 134.111.44.50 64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G 134.111.44.50: 64 data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2 bytes from (134.111.44.50): icmp_seq=0. time=0.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72 bytes from (134.111.44.50): icmp_seq=3. time=0.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134.111.44.50 PING Statistics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 packets transmitted, 4 packets received, 0%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nd-trip (ms)  min/avg/max = 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dcard ro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out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bad routing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ynamically crea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w gateways due to redir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 destinations found unreach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  <a:ea typeface="Courier New"/>
              </a:rPr>
              <a:t>41 uses of a wildcard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P forwarding i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received with the correct MAC address but the wrong IP address will be forwarded to an interface that can reach the indicated IP dest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forwarding controlled by the variable ip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of 1 allows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of 0 stops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fault is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in /etc/conf/pack.d/ip/space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value via cr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ubnet mask doesn’t match rest of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broadcast address interpreted as a unicas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odule’s subnet mask is more restrictive we will forward packet - possibly to default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module’s subnet mask is less restrictive we will interpret the IP address as being on the local subnet and try to forward it. Issuing an ARP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statistics will indicate if we are forwarding packets or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o not make a very goo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router (newfangl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g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to Internet Engineering Task Force as a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ve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ing the value of ip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&gt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od ipforwa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4380370:  0000000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.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ipforwarding value to allow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&gt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4 ipforwarding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the ipforwarding value to preven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&gt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w4 ipforwarding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netstat -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75896433 total packets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bad header checksu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with size smaller than minim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with data size &lt; data 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with header length &lt; data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with data length &lt; header leng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9444 fragments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fragments dropped (dup or out of spa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fragments dropped after time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 packets forwar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59117 packets not forwar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 redirects 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-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forw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of the packets forwar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s not forwar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of packets not forwar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forwarding set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the RIP v1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used, typically started in the /etc/rc2.d/S69inetinit  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r/sbin/in.ro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et mode, listens but does not broadcast rout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s the broadcast of rout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v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changes to routing tables in file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s more info to tracing PATH or user_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does not detach from controlling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way to tell from looking at netstat output that routing table has been updated via RIP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 table flags don’t show D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reated routes statistic not incr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uted keeps a copy of the routing table, don’t change the routing table with the route command once routed is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/etc/gateways to set initial ro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list of local and remote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s on routes marked passive or external are considered rem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gateways are expected to send RIP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to do so will cause the associated routes to be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net|host } net_or_hostaddr gateway gateway_addr metric metric_value [ passive |external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net|host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words indicating type of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_or_host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of  the  destination  network or host.  This can be a symbolic name located in /etc/networks or /etc/hosts  or  an  internet address specified in dot n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X manag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etc/gateways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key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of the gateway to which  messages should be forwa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key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_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ric value for hop count to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ah Davids</dc:creator>
  <dc:description/>
  <dc:language>en-US</dc:language>
  <cp:lastModifiedBy>Noah Davids</cp:lastModifiedBy>
  <cp:revision>0</cp:revision>
  <dc:subject/>
  <dc:title>Routing Made Simple</dc:title>
</cp:coreProperties>
</file>