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6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37.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32600" cy="9396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32800" cy="939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800"/>
            <a:ext cx="2960640" cy="469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70360" y="-1800"/>
            <a:ext cx="2960640" cy="469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071360" y="709560"/>
            <a:ext cx="4686120" cy="3511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926200"/>
            <a:ext cx="2960640" cy="469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70360" y="8926200"/>
            <a:ext cx="2960640" cy="469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8EB1-B43D-443A-8618-DEB204E70B6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73160" y="709560"/>
            <a:ext cx="4683240" cy="3511440"/>
          </a:xfrm>
          <a:prstGeom prst="rect">
            <a:avLst/>
          </a:prstGeom>
          <a:ln w="0">
            <a:noFill/>
          </a:ln>
        </p:spPr>
      </p:sp>
      <p:sp>
        <p:nvSpPr>
          <p:cNvPr id="229" name="PlaceHolder 2"/>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tree algorithm is turned off to avoid the learning and listening times on ports which have changed. Times can be 10 of seconds. During learning/listening time any frames transmitted are ignored and frames received for those ports are just drop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that Stratus must have no other interfaces on any network or IP forwarding must be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terfaces are on same network then a problem with subnet masks may cause forwar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nterfaces are on a different network and no other host on switch network is on that other network you are OK - but if it is and it is also forwarding then you again can have a loop.</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73160" y="709560"/>
            <a:ext cx="4683240" cy="3511440"/>
          </a:xfrm>
          <a:prstGeom prst="rect">
            <a:avLst/>
          </a:prstGeom>
          <a:ln w="0">
            <a:noFill/>
          </a:ln>
        </p:spPr>
      </p:sp>
      <p:sp>
        <p:nvSpPr>
          <p:cNvPr id="231" name="PlaceHolder 2"/>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he two repeaters in the loop so that you can leave the spanning tree algorithm on without being hit by the learning/listening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left as an exercise for the listener to determine how to get both switches onto the network</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71720" y="709560"/>
            <a:ext cx="4686120" cy="3511440"/>
          </a:xfrm>
          <a:prstGeom prst="rect">
            <a:avLst/>
          </a:prstGeom>
          <a:ln w="0">
            <a:noFill/>
          </a:ln>
        </p:spPr>
      </p:sp>
      <p:sp>
        <p:nvSpPr>
          <p:cNvPr id="233" name="PlaceHolder 2"/>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 Northup mentioned in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switches can be configured to try to stop address spoofing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utting down a port where the address changes. The addres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faces change when there is a failover so the switch may shut down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r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071720" y="709560"/>
            <a:ext cx="4686120" cy="3511440"/>
          </a:xfrm>
          <a:prstGeom prst="rect">
            <a:avLst/>
          </a:prstGeom>
          <a:ln w="0">
            <a:noFill/>
          </a:ln>
        </p:spPr>
      </p:sp>
      <p:sp>
        <p:nvSpPr>
          <p:cNvPr id="235" name="PlaceHolder 2"/>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match up patners via the client_index value - partners will have the sam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071720" y="709560"/>
            <a:ext cx="4686120" cy="3511440"/>
          </a:xfrm>
          <a:prstGeom prst="rect">
            <a:avLst/>
          </a:prstGeom>
          <a:ln w="0">
            <a:noFill/>
          </a:ln>
        </p:spPr>
      </p:sp>
      <p:sp>
        <p:nvSpPr>
          <p:cNvPr id="237" name="PlaceHolder 2"/>
          <p:cNvSpPr>
            <a:spLocks noGrp="1"/>
          </p:cNvSpPr>
          <p:nvPr>
            <p:ph type="body"/>
          </p:nvPr>
        </p:nvSpPr>
        <p:spPr>
          <a:xfrm>
            <a:off x="909360" y="4462200"/>
            <a:ext cx="5010120" cy="42289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ure if we can trust these error numbers in 13.4 - on going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3DC2A-3C85-4E72-994D-02F6A4E0EB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724A1-0C2F-49EC-8789-DFE9D492D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5F5BF-3674-4A07-8BE4-D09B1202C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BC741-9AD5-41D8-8258-642AC3E4A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5493-AFC8-45C3-966B-35768EA4D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3600-81BE-4BDC-876B-533AED31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676DE-F862-4E17-9A00-63CE87E6E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6D3E-D789-4608-84DA-55585F7E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878D7-C342-4A86-B03B-FEE017C90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C735-307F-4573-9455-815D26EB1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6D55-6FD6-4C1A-B2A1-E88A9065C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ECD0-9860-4BEA-926C-8C0A660F1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session: VOS0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F107-286D-42A9-9A21-DB2CE16A0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395280" y="0"/>
          <a:ext cx="8494560" cy="4919760"/>
        </p:xfrm>
        <a:graphic>
          <a:graphicData uri="http://schemas.openxmlformats.org/presentationml/2006/ole">
            <p:oleObj r:id="rId1" spid="">
              <p:embed/>
              <p:pic>
                <p:nvPicPr>
                  <p:cNvPr id="49" name="" descr=""/>
                  <p:cNvPicPr/>
                  <p:nvPr/>
                </p:nvPicPr>
                <p:blipFill>
                  <a:blip r:embed="rId2"/>
                  <a:stretch/>
                </p:blipFill>
                <p:spPr>
                  <a:xfrm>
                    <a:off x="395280" y="0"/>
                    <a:ext cx="8494560" cy="4919760"/>
                  </a:xfrm>
                  <a:prstGeom prst="rect">
                    <a:avLst/>
                  </a:prstGeom>
                  <a:ln w="0">
                    <a:noFill/>
                  </a:ln>
                </p:spPr>
              </p:pic>
            </p:oleObj>
          </a:graphicData>
        </a:graphic>
      </p:graphicFrame>
      <p:sp>
        <p:nvSpPr>
          <p:cNvPr id="50" name=""/>
          <p:cNvSpPr/>
          <p:nvPr/>
        </p:nvSpPr>
        <p:spPr>
          <a:xfrm>
            <a:off x="1371600" y="3352680"/>
            <a:ext cx="6400800" cy="28195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h David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us Computer Inc.</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ssistance Cente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828-8513</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_Bilotti@Stratus.co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ratagy 1998 - San Diego</a:t>
            </a:r>
          </a:p>
        </p:txBody>
      </p:sp>
      <p:sp>
        <p:nvSpPr>
          <p:cNvPr id="3" name="PlaceHolder 2"/>
          <p:cNvSpPr>
            <a:spLocks noGrp="1"/>
          </p:cNvSpPr>
          <p:nvPr>
            <p:ph type="sldNum" idx="3"/>
          </p:nvPr>
        </p:nvSpPr>
        <p:spPr/>
        <p:txBody>
          <a:bodyPr/>
          <a:p>
            <a:fld id="{D758F754-0225-4F18-B30C-975122E2D9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Generating a new MAC addres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0:A8:8v:wx:y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non-Continuum system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ex of dl_mux ent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x:yz</a:t>
            </a:r>
            <a:r>
              <a:rPr b="0" lang="en-US" sz="2400" spc="-1" strike="noStrike">
                <a:solidFill>
                  <a:srgbClr val="000000"/>
                </a:solidFill>
                <a:latin typeface="Times New Roman"/>
              </a:rPr>
              <a:t>	</a:t>
            </a:r>
            <a:r>
              <a:rPr b="0" lang="en-US" sz="2400" spc="-1" strike="noStrike">
                <a:solidFill>
                  <a:srgbClr val="000000"/>
                </a:solidFill>
                <a:latin typeface="Times New Roman"/>
              </a:rPr>
              <a:t>0ddsssssmmmmmmmm</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d</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ower 2 bits of disk_pack UID</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s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lower 5 bits of system number</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mmmmmmm</a:t>
            </a:r>
            <a:r>
              <a:rPr b="0" lang="en-US" sz="2000" spc="-1" strike="noStrike">
                <a:solidFill>
                  <a:srgbClr val="000000"/>
                </a:solidFill>
                <a:latin typeface="Times New Roman"/>
              </a:rPr>
              <a:t>	</a:t>
            </a:r>
            <a:r>
              <a:rPr b="0" lang="en-US" sz="2000" spc="-1" strike="noStrike">
                <a:solidFill>
                  <a:srgbClr val="000000"/>
                </a:solidFill>
                <a:latin typeface="Times New Roman"/>
              </a:rPr>
              <a:t>lower 8 bits of module numb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66DBB75-58C9-4DA9-ABC3-6925F86B69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How it determines that something is broke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2285640"/>
            <a:ext cx="7772400" cy="3886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board breaks we failover immediately</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board reports that carrier was lost we failover immediately</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450 reports carrier lost immediatel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460 reports carrier lost only when it tries to send something</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104 does not report carrier lost until 13.3.2u</a:t>
            </a:r>
            <a:endParaRPr b="0" lang="en-US" sz="24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 for gdl-95</a:t>
            </a:r>
            <a:endParaRPr b="0" lang="en-US" sz="2000" spc="-1" strike="noStrike">
              <a:solidFill>
                <a:srgbClr val="000000"/>
              </a:solidFill>
              <a:latin typeface="Times New Roman"/>
            </a:endParaRPr>
          </a:p>
          <a:p>
            <a:pPr lvl="2" marL="113148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take 10 seconds to recognize lost or reconnec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ED56749-4FC2-4878-BD3C-7374D83AB5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messages when active K104 loses carrier</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evice id: 04/06  Carrier is los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iza_dl_control.c: 2937: gdl_disconnect_real: Giza error during clos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f device 04/07, state 106 Code =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isconnecting. GDL device id: 04/07 channel: 100004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isconnecting. GDL device id: 04/07 channel: 100011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isconnecting. GDL device id: 04/07 channel: 100011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isconnecting. GDL device id: 04/07 channel: 100010f</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disconnecting. GDL device id: 04/07 channel: 100010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flushing. GDL device id: 04/07 channel: 1000047 type: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flushing. GDL device id: 04/07 channel: 1000046 type: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is disconnected. GDL device id: 04/0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gdl_entry 3 is now undefin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7:12  GDL is connected to device id 04/0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53E252C-3F65-48A5-8558-1208A7E42D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messages when standby K104 loses carrier</a:t>
            </a:r>
            <a:endParaRPr b="0" lang="en-US" sz="4400" spc="-1" strike="noStrike">
              <a:solidFill>
                <a:srgbClr val="000000"/>
              </a:solidFill>
              <a:latin typeface="Times New Roman"/>
            </a:endParaRPr>
          </a:p>
        </p:txBody>
      </p:sp>
      <p:sp>
        <p:nvSpPr>
          <p:cNvPr id="75" name="PlaceHolder 2"/>
          <p:cNvSpPr>
            <a:spLocks noGrp="1"/>
          </p:cNvSpPr>
          <p:nvPr>
            <p:ph/>
          </p:nvPr>
        </p:nvSpPr>
        <p:spPr>
          <a:xfrm>
            <a:off x="762120" y="236232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9:53  GDL device id: 04/06  Carrier is los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C18F26C-9BDF-4FCC-8C79-D3F217126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messages when standby K104 restores carrier</a:t>
            </a:r>
            <a:endParaRPr b="0" lang="en-US" sz="4400" spc="-1" strike="noStrike">
              <a:solidFill>
                <a:srgbClr val="000000"/>
              </a:solidFill>
              <a:latin typeface="Times New Roman"/>
            </a:endParaRPr>
          </a:p>
        </p:txBody>
      </p:sp>
      <p:sp>
        <p:nvSpPr>
          <p:cNvPr id="77" name="PlaceHolder 2"/>
          <p:cNvSpPr>
            <a:spLocks noGrp="1"/>
          </p:cNvSpPr>
          <p:nvPr>
            <p:ph/>
          </p:nvPr>
        </p:nvSpPr>
        <p:spPr>
          <a:xfrm>
            <a:off x="533520" y="236232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2  GDL device id: 04/06  Carrier is restor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2  GDL closing. GDL device id: 04/06 channel: 100011b type: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2  GDL closing. GDL device id: 04/06 channel: 100011a type: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2  GDL closing. GDL device id: 04/06 channel: 1000119 type: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2  GDL closing. GDL device id: 04/06 channel: 1000118 type: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3  GDL flushing. GDL device id: 04/06 channel: 100003f type: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3  GDL flushing. GDL device id: 04/06 channel: 100003e type: 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3  GDL is disconnected. GDL device id: 04/0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3  GDL gdl_entry 2 is now undefin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0:33  GDL is connected to device id 04/06</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24BB161-D458-437B-B7A5-1AE1F36A77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t works </a:t>
            </a:r>
            <a:br>
              <a:rPr sz="4000"/>
            </a:br>
            <a:r>
              <a:rPr b="0" lang="en-US" sz="4000" spc="-1" strike="noStrike">
                <a:solidFill>
                  <a:srgbClr val="000000"/>
                </a:solidFill>
                <a:latin typeface="Times New Roman"/>
              </a:rPr>
              <a:t>K460 carrier lost/restored messages</a:t>
            </a:r>
            <a:endParaRPr b="0" lang="en-US" sz="4000" spc="-1" strike="noStrike">
              <a:solidFill>
                <a:srgbClr val="000000"/>
              </a:solidFill>
              <a:latin typeface="Times New Roman"/>
            </a:endParaRPr>
          </a:p>
        </p:txBody>
      </p:sp>
      <p:sp>
        <p:nvSpPr>
          <p:cNvPr id="79" name="PlaceHolder 2"/>
          <p:cNvSpPr>
            <a:spLocks noGrp="1"/>
          </p:cNvSpPr>
          <p:nvPr>
            <p:ph/>
          </p:nvPr>
        </p:nvSpPr>
        <p:spPr>
          <a:xfrm>
            <a:off x="762120" y="1981080"/>
            <a:ext cx="7772400" cy="4114800"/>
          </a:xfrm>
          <a:prstGeom prst="rect">
            <a:avLst/>
          </a:prstGeom>
          <a:noFill/>
          <a:ln w="0">
            <a:noFill/>
          </a:ln>
        </p:spPr>
        <p:txBody>
          <a:bodyPr lIns="92160" rIns="92160" tIns="46080" bIns="4608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connect cable from active interface. It took about 10 seconds to recognize the carrier lose. </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s can be much faster if there are active connections sending data. Note no dlmux message </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cating a failover even though dlmux did switch the active interface.</a:t>
            </a:r>
            <a:endParaRPr b="0" lang="en-US" sz="16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2:58:44  bdl_io.c: 613: bdl_hsc_scan_sent_ques: K460 in slot 3 lost carrier</a:t>
            </a: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nnect cable to interface. Again about 10 seconds to recognize this but with an active </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nection its much faster.</a:t>
            </a:r>
            <a:endParaRPr b="0" lang="en-US" sz="16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3:00:59  bdl_io.c: 624: bdl_hsc_scan_sent_ques: K460 in slot 3 had carrier res</a:t>
            </a: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red</a:t>
            </a: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60 to 90 seconds dlmux may decide to move the active network connection back to the </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by SCSI controller.</a:t>
            </a:r>
            <a:endParaRPr b="0" lang="en-US" sz="16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3:01:59  dlmux_timers.c: 605: dlmux_generate_failover: failing over adapter %p</a:t>
            </a: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x_cac_j#enet.13.2 to adapter %phx_cac_j#enet.13.3</a:t>
            </a: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58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216B836-B8A7-4B28-9DD2-9105B92E4F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How it determines that something is broken</a:t>
            </a:r>
            <a:endParaRPr b="0" lang="en-US" sz="4400" spc="-1" strike="noStrike">
              <a:solidFill>
                <a:srgbClr val="000000"/>
              </a:solidFill>
              <a:latin typeface="Times New Roman"/>
            </a:endParaRPr>
          </a:p>
        </p:txBody>
      </p:sp>
      <p:sp>
        <p:nvSpPr>
          <p:cNvPr id="81" name="PlaceHolder 2"/>
          <p:cNvSpPr>
            <a:spLocks noGrp="1"/>
          </p:cNvSpPr>
          <p:nvPr>
            <p:ph/>
          </p:nvPr>
        </p:nvSpPr>
        <p:spPr>
          <a:xfrm>
            <a:off x="762120" y="2514240"/>
            <a:ext cx="7772400" cy="35053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l_mux periodically polls the two interfaces and their network conn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l timing controlled by dlmux_test_interva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 value is 30 seco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 poll time is 45 seconds</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have no idea why there is an extra 15 secon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30A4233-CAF6-4B82-8A44-46ADCEFEE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How it determines that something is broken</a:t>
            </a:r>
            <a:endParaRPr b="0" lang="en-US" sz="4400" spc="-1" strike="noStrike">
              <a:solidFill>
                <a:srgbClr val="000000"/>
              </a:solidFill>
              <a:latin typeface="Times New Roman"/>
            </a:endParaRPr>
          </a:p>
        </p:txBody>
      </p:sp>
      <p:sp>
        <p:nvSpPr>
          <p:cNvPr id="83" name="PlaceHolder 2"/>
          <p:cNvSpPr>
            <a:spLocks noGrp="1"/>
          </p:cNvSpPr>
          <p:nvPr>
            <p:ph/>
          </p:nvPr>
        </p:nvSpPr>
        <p:spPr>
          <a:xfrm>
            <a:off x="762120" y="2285640"/>
            <a:ext cx="7772400" cy="3886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econdary does not receive poll frame from prim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en for broadcast fram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 that is receiving broadcasts is assumed to be on the networ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either card sees broadcasts (or they both do)</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have sent a non-test frame out and we haven’t gotten any inbound frames switch anywa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5F40716-4BAD-4C9E-96AE-06EE96AD9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sniffer trace showing</a:t>
            </a:r>
            <a:br>
              <a:rPr sz="4400"/>
            </a:br>
            <a:r>
              <a:rPr b="0" lang="en-US" sz="4400" spc="-1" strike="noStrike">
                <a:solidFill>
                  <a:srgbClr val="000000"/>
                </a:solidFill>
                <a:latin typeface="Times New Roman"/>
              </a:rPr>
              <a:t>test frame timing</a:t>
            </a:r>
            <a:endParaRPr b="0" lang="en-US" sz="4400" spc="-1" strike="noStrike">
              <a:solidFill>
                <a:srgbClr val="000000"/>
              </a:solidFill>
              <a:latin typeface="Times New Roman"/>
            </a:endParaRPr>
          </a:p>
        </p:txBody>
      </p:sp>
      <p:sp>
        <p:nvSpPr>
          <p:cNvPr id="85" name="PlaceHolder 2"/>
          <p:cNvSpPr>
            <a:spLocks noGrp="1"/>
          </p:cNvSpPr>
          <p:nvPr>
            <p:ph/>
          </p:nvPr>
        </p:nvSpPr>
        <p:spPr>
          <a:xfrm>
            <a:off x="304560" y="2286000"/>
            <a:ext cx="8458200" cy="373392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Delta T     Destination   Source        Summa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0.0012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44.9986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0.0010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45.0001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0.0009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44.9990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0.0003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45.0008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0.0001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44.9994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0.0002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3   45.0007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4    0.0004  Strtus8186D7    StrtusA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A8D3AF9-EF5E-4448-8375-ACB2FEA5F4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ll Frame - standby to active </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 DLC Header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Destination = Station Strtus8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Source      = Station StrtusA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802.3 length = 2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 LLC Header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DSAP Address = AE, DSAP IG Bit = 01 (Group Addres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SSAP Address = AE, SSAP CR Bit = 01 (Respons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Unnumbered frame: Invalid U-type, FIN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ERROR: Data is not allowed for this form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rame padding= 26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R  HEX                                                ASCII</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0  00 00 A8 81 86 D7 00 00  A8 A1 86 D7 00 18 AF AF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10  F7 31 32 39 2E 31 2E 30  00 00 00 00 00 01 00 00  .129.1.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20  00 00 00 00 00 00 00 00  00 00 00 00 00 00 00 00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30  00 00 00 00 00 00 00 00  00 00 00 00 00 00 00 00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CCAEABE-F76A-4C05-844B-D481C71700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ll of Far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05A23FE-C961-4841-8816-3D9DA710A8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ll Frame - active to standby</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 DLC Header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Destination = Station StrtusA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Source      = Station Strtus8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802.3 length = 2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 LLC Header -----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DSAP Address = AE, DSAP IG Bit = 01 (Group Addres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SSAP Address = AE, SSAP CR Bit = 01 (Respons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Unnumbered frame: Invalid U-type, FIN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ERROR: Data is not allowed for this form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rame padding= 26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R  HEX                                                ASCII</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0  00 00 A8 A1 86 D7 00 00  A8 81 86 D7 00 18 AF AF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10  F7 31 32 39 2E 31 2E 30  00 E8 C6 73 2C 01 FF FF  .129.1.0...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20  FF FF 02 08 02 08 00 E8  00 00 02 01 00 00 00 02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30  00 00 C6 73 0D 00 00 00  00 00 00 00 00 00 00 00  ...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CD94306-823C-4839-BDD2-55C926EED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Fast Poll when active/secondary lose communication</a:t>
            </a:r>
            <a:endParaRPr b="0" lang="en-US" sz="4400" spc="-1" strike="noStrike">
              <a:solidFill>
                <a:srgbClr val="000000"/>
              </a:solidFill>
              <a:latin typeface="Times New Roman"/>
            </a:endParaRPr>
          </a:p>
        </p:txBody>
      </p:sp>
      <p:sp>
        <p:nvSpPr>
          <p:cNvPr id="91" name="PlaceHolder 2"/>
          <p:cNvSpPr>
            <a:spLocks noGrp="1"/>
          </p:cNvSpPr>
          <p:nvPr>
            <p:ph/>
          </p:nvPr>
        </p:nvSpPr>
        <p:spPr>
          <a:xfrm>
            <a:off x="380520" y="2438280"/>
            <a:ext cx="8458200" cy="327672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UMMARY  Delta T     Destination   Source        Summa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0.0000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2.9997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3.0012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4    3.0008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6    3.0003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3   32.9985  StrtusA186D7    Strtus8186D7     LLC R D=AE S=AE Invalid U-type 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69F449F-9A1F-40E9-AF4C-394640EF5A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t works </a:t>
            </a:r>
            <a:br>
              <a:rPr sz="4000"/>
            </a:br>
            <a:r>
              <a:rPr b="0" lang="en-US" sz="4000" spc="-1" strike="noStrike">
                <a:solidFill>
                  <a:srgbClr val="000000"/>
                </a:solidFill>
                <a:latin typeface="Times New Roman"/>
              </a:rPr>
              <a:t>messages when poll fails and dlmux forces K104 failover</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a:t>
            </a:r>
            <a:r>
              <a:rPr b="1" lang="en-US" sz="1000" spc="-1" strike="noStrike">
                <a:solidFill>
                  <a:srgbClr val="000000"/>
                </a:solidFill>
                <a:latin typeface="Courier New"/>
              </a:rPr>
              <a:t>dlmux_timers.c: 788: dlmux_generate_failover: failing over adapter %p</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hx_cac_j#tcp1.6 to adapter %phx_cac_j#tcp1.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7 channel: 1000127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6 channel: 1000123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7 channel: 1000126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6 channel: 1000122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7 channel: 1000125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6 channel: 1000121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7 channel: 1000124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closing. GDL device id: 04/06 channel: 1000120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flushing. GDL device id: 04/07 channel: 1000047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flushing. GDL device id: 04/06 channel: 100003f type: 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flushing. GDL device id: 04/07 channel: 1000046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flushing. GDL device id: 04/06 channel: 100003e type: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is disconnected. GDL device id: 04/0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gdl_entry 3 is now undefine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is disconnected. GDL device id: 04/06</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gdl_entry 2 is now undefine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is connected to device id 04/0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55:12  GDL is connected to device id 04/06</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DF4BA6F-2C3F-419B-857C-948D4DCC03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it works </a:t>
            </a:r>
            <a:br>
              <a:rPr sz="4000"/>
            </a:br>
            <a:r>
              <a:rPr b="0" lang="en-US" sz="4000" spc="-1" strike="noStrike">
                <a:solidFill>
                  <a:srgbClr val="000000"/>
                </a:solidFill>
                <a:latin typeface="Times New Roman"/>
              </a:rPr>
              <a:t>messages when poll fails and dlmux forces K460 failover</a:t>
            </a:r>
            <a:endParaRPr b="0" lang="en-US" sz="4000" spc="-1" strike="noStrike">
              <a:solidFill>
                <a:srgbClr val="000000"/>
              </a:solidFill>
              <a:latin typeface="Times New Roman"/>
            </a:endParaRPr>
          </a:p>
        </p:txBody>
      </p:sp>
      <p:sp>
        <p:nvSpPr>
          <p:cNvPr id="95" name="PlaceHolder 2"/>
          <p:cNvSpPr>
            <a:spLocks noGrp="1"/>
          </p:cNvSpPr>
          <p:nvPr>
            <p:ph/>
          </p:nvPr>
        </p:nvSpPr>
        <p:spPr>
          <a:xfrm>
            <a:off x="685800" y="2285640"/>
            <a:ext cx="7772400" cy="3352680"/>
          </a:xfrm>
          <a:prstGeom prst="rect">
            <a:avLst/>
          </a:prstGeom>
          <a:noFill/>
          <a:ln w="0">
            <a:noFill/>
          </a:ln>
        </p:spPr>
        <p:txBody>
          <a:bodyPr lIns="92160" rIns="92160" tIns="46080" bIns="4608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6:06:03  dlmux_timers.c: 803: dlmux_generate_failover: failing over adapter %p</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hx_cac_j#enet.13.3 to adapter %phx_cac_j#enet.13.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AF09980-1D75-4E81-BAB3-170F93FAEE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requirement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2438280"/>
            <a:ext cx="7772400" cy="3657600"/>
          </a:xfrm>
          <a:prstGeom prst="rect">
            <a:avLst/>
          </a:prstGeom>
          <a:noFill/>
          <a:ln w="0">
            <a:noFill/>
          </a:ln>
        </p:spPr>
        <p:txBody>
          <a:bodyPr lIns="92160" rIns="92160" tIns="46080" bIns="4608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oth partners must</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e wired to the same</a:t>
            </a:r>
            <a:endParaRPr b="0" lang="en-US" sz="6000" spc="-1" strike="noStrike">
              <a:solidFill>
                <a:srgbClr val="000000"/>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ubnet</a:t>
            </a:r>
            <a:endParaRPr b="0" lang="en-US" sz="6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y have the same IP address after al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421DF10-0B9B-41FE-8D21-346BE9BFAF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requirement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required that each interface be connected to a separate hu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so that if the hub fails the network connection is not lost - but not requir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required that the two interfaces have a communication path at the data link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so that the test frames can get through</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79254B2-EE08-4045-83A1-146F0BF4FE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requirement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ed K460 interfaces must both be configured with the same line speed and duplex setting</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 setting speed and duplex values in the parameters field</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ving values out of parameters field will result in autosensing which may result in different valu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625559E-1DDE-4A3C-8A93-C873C6662C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st configur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hub/repea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ault tolerance only for Stratus interfaces</a:t>
            </a:r>
            <a:endParaRPr b="0" lang="en-US" sz="2000" spc="-1" strike="noStrike">
              <a:solidFill>
                <a:srgbClr val="000000"/>
              </a:solidFill>
              <a:latin typeface="Times New Roman"/>
            </a:endParaRPr>
          </a:p>
        </p:txBody>
      </p:sp>
      <p:graphicFrame>
        <p:nvGraphicFramePr>
          <p:cNvPr id="104" name=""/>
          <p:cNvGraphicFramePr/>
          <p:nvPr/>
        </p:nvGraphicFramePr>
        <p:xfrm>
          <a:off x="685800" y="2765520"/>
          <a:ext cx="3835440" cy="2570040"/>
        </p:xfrm>
        <a:graphic>
          <a:graphicData uri="http://schemas.openxmlformats.org/presentationml/2006/ole">
            <p:oleObj r:id="rId1" spid="">
              <p:embed/>
              <p:pic>
                <p:nvPicPr>
                  <p:cNvPr id="105" name="" descr=""/>
                  <p:cNvPicPr/>
                  <p:nvPr/>
                </p:nvPicPr>
                <p:blipFill>
                  <a:blip r:embed="rId2"/>
                  <a:stretch/>
                </p:blipFill>
                <p:spPr>
                  <a:xfrm>
                    <a:off x="685800" y="2765520"/>
                    <a:ext cx="3835440" cy="257004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49AFDC0-D7F1-4289-AE97-941E998332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hub/repea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ault tolerance only for Stratus interfaces</a:t>
            </a:r>
            <a:endParaRPr b="0" lang="en-US" sz="2000" spc="-1" strike="noStrike">
              <a:solidFill>
                <a:srgbClr val="000000"/>
              </a:solidFill>
              <a:latin typeface="Times New Roman"/>
            </a:endParaRPr>
          </a:p>
        </p:txBody>
      </p:sp>
      <p:graphicFrame>
        <p:nvGraphicFramePr>
          <p:cNvPr id="108" name=""/>
          <p:cNvGraphicFramePr/>
          <p:nvPr/>
        </p:nvGraphicFramePr>
        <p:xfrm>
          <a:off x="1143000" y="2590920"/>
          <a:ext cx="3581280" cy="2819160"/>
        </p:xfrm>
        <a:graphic>
          <a:graphicData uri="http://schemas.openxmlformats.org/presentationml/2006/ole">
            <p:oleObj r:id="rId1" spid="">
              <p:embed/>
              <p:pic>
                <p:nvPicPr>
                  <p:cNvPr id="109" name="" descr=""/>
                  <p:cNvPicPr/>
                  <p:nvPr/>
                </p:nvPicPr>
                <p:blipFill>
                  <a:blip r:embed="rId2"/>
                  <a:stretch/>
                </p:blipFill>
                <p:spPr>
                  <a:xfrm>
                    <a:off x="1143000" y="2590920"/>
                    <a:ext cx="3581280" cy="281916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1768FD6-3F07-424B-A2E4-F255348A3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11" name=""/>
          <p:cNvSpPr/>
          <p:nvPr/>
        </p:nvSpPr>
        <p:spPr>
          <a:xfrm>
            <a:off x="4572000" y="1981080"/>
            <a:ext cx="380988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hub/repea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ault tolerance only for Stratus interfa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nly 1 connection between hub and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switch allows full duplex operation and dedicated bandwidth for devices directly connected to switch</a:t>
            </a:r>
            <a:endParaRPr b="0" lang="en-US" sz="2000" spc="-1" strike="noStrike">
              <a:solidFill>
                <a:srgbClr val="000000"/>
              </a:solidFill>
              <a:latin typeface="Times New Roman"/>
            </a:endParaRPr>
          </a:p>
        </p:txBody>
      </p:sp>
      <p:graphicFrame>
        <p:nvGraphicFramePr>
          <p:cNvPr id="112" name=""/>
          <p:cNvGraphicFramePr/>
          <p:nvPr/>
        </p:nvGraphicFramePr>
        <p:xfrm>
          <a:off x="685800" y="2768760"/>
          <a:ext cx="3848040" cy="2577960"/>
        </p:xfrm>
        <a:graphic>
          <a:graphicData uri="http://schemas.openxmlformats.org/presentationml/2006/ole">
            <p:oleObj r:id="rId1" spid="">
              <p:embed/>
              <p:pic>
                <p:nvPicPr>
                  <p:cNvPr id="113" name="" descr=""/>
                  <p:cNvPicPr/>
                  <p:nvPr/>
                </p:nvPicPr>
                <p:blipFill>
                  <a:blip r:embed="rId2"/>
                  <a:stretch/>
                </p:blipFill>
                <p:spPr>
                  <a:xfrm>
                    <a:off x="685800" y="2768760"/>
                    <a:ext cx="3848040" cy="2577960"/>
                  </a:xfrm>
                  <a:prstGeom prst="rect">
                    <a:avLst/>
                  </a:prstGeom>
                  <a:ln w="0">
                    <a:noFill/>
                  </a:ln>
                </p:spPr>
              </p:pic>
            </p:oleObj>
          </a:graphicData>
        </a:graphic>
      </p:graphicFrame>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312F7EDC-61A0-4D5A-9DC7-243C9DB980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l_mux</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ink multiplexor</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d in VOS 13.2</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two network interfaces to be partnered to provide failover protection</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s must be same hardware type</a:t>
            </a:r>
            <a:endParaRPr b="0" lang="en-US" sz="2400" spc="-1" strike="noStrike">
              <a:solidFill>
                <a:srgbClr val="000000"/>
              </a:solidFill>
              <a:latin typeface="Times New Roman"/>
            </a:endParaRPr>
          </a:p>
          <a:p>
            <a:pPr lvl="3" marL="155196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104, K450, K460, I104/K130</a:t>
            </a:r>
            <a:endParaRPr b="0" lang="en-US" sz="20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terface goes broken</a:t>
            </a:r>
            <a:endParaRPr b="0" lang="en-US" sz="24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connection to 1 interface fails</a:t>
            </a:r>
            <a:endParaRPr b="0" lang="en-US" sz="2400" spc="-1" strike="noStrike">
              <a:solidFill>
                <a:srgbClr val="000000"/>
              </a:solidFill>
              <a:latin typeface="Times New Roman"/>
            </a:endParaRPr>
          </a:p>
          <a:p>
            <a:pPr lvl="3" marL="155196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ble disconnect</a:t>
            </a:r>
            <a:endParaRPr b="0" lang="en-US" sz="2000" spc="-1" strike="noStrike">
              <a:solidFill>
                <a:srgbClr val="000000"/>
              </a:solidFill>
              <a:latin typeface="Times New Roman"/>
            </a:endParaRPr>
          </a:p>
          <a:p>
            <a:pPr lvl="3" marL="1551960" indent="-221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ub failu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330C6EB-B747-41A6-A6B1-6437918268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nnections directly to switc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ning tree algorithm must be off or frames could be lost during switch</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fault tolerance only for Stratus interfa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witch allows for full duplex operation and dedicated bandwidth</a:t>
            </a:r>
            <a:endParaRPr b="0" lang="en-US" sz="2000" spc="-1" strike="noStrike">
              <a:solidFill>
                <a:srgbClr val="000000"/>
              </a:solidFill>
              <a:latin typeface="Times New Roman"/>
            </a:endParaRPr>
          </a:p>
        </p:txBody>
      </p:sp>
      <p:graphicFrame>
        <p:nvGraphicFramePr>
          <p:cNvPr id="116" name=""/>
          <p:cNvGraphicFramePr/>
          <p:nvPr/>
        </p:nvGraphicFramePr>
        <p:xfrm>
          <a:off x="685800" y="2768760"/>
          <a:ext cx="3848040" cy="2577960"/>
        </p:xfrm>
        <a:graphic>
          <a:graphicData uri="http://schemas.openxmlformats.org/presentationml/2006/ole">
            <p:oleObj r:id="rId1" spid="">
              <p:embed/>
              <p:pic>
                <p:nvPicPr>
                  <p:cNvPr id="117" name="" descr=""/>
                  <p:cNvPicPr/>
                  <p:nvPr/>
                </p:nvPicPr>
                <p:blipFill>
                  <a:blip r:embed="rId2"/>
                  <a:stretch/>
                </p:blipFill>
                <p:spPr>
                  <a:xfrm>
                    <a:off x="685800" y="2768760"/>
                    <a:ext cx="3848040" cy="257796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D5C1990-2225-4989-93C4-7A3000AA71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graphicFrame>
        <p:nvGraphicFramePr>
          <p:cNvPr id="119" name=""/>
          <p:cNvGraphicFramePr/>
          <p:nvPr/>
        </p:nvGraphicFramePr>
        <p:xfrm>
          <a:off x="1066680" y="2514600"/>
          <a:ext cx="3657600" cy="2895480"/>
        </p:xfrm>
        <a:graphic>
          <a:graphicData uri="http://schemas.openxmlformats.org/presentationml/2006/ole">
            <p:oleObj r:id="rId1" spid="">
              <p:embed/>
              <p:pic>
                <p:nvPicPr>
                  <p:cNvPr id="120" name="" descr=""/>
                  <p:cNvPicPr/>
                  <p:nvPr/>
                </p:nvPicPr>
                <p:blipFill>
                  <a:blip r:embed="rId2"/>
                  <a:stretch/>
                </p:blipFill>
                <p:spPr>
                  <a:xfrm>
                    <a:off x="1066680" y="2514600"/>
                    <a:ext cx="3657600" cy="2895480"/>
                  </a:xfrm>
                  <a:prstGeom prst="rect">
                    <a:avLst/>
                  </a:prstGeom>
                  <a:ln w="0">
                    <a:noFill/>
                  </a:ln>
                </p:spPr>
              </p:pic>
            </p:oleObj>
          </a:graphicData>
        </a:graphic>
      </p:graphicFrame>
      <p:sp>
        <p:nvSpPr>
          <p:cNvPr id="121"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switches provides fault tolerance for switc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ning tree algorithm must be off or frames could be lost during DLMUX switc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switch fails other hosts connected to switch will lose connec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switch allows for full duplex operation and dedicated bandwidt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C475DB43-3127-4E9C-B05F-EA7466A4B2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y redundant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hub/repea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special setup needed on switch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nning tree algorithm must be 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 can only run in half duplex mod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only interfaces on the hub/repeater this will not be significant</a:t>
            </a:r>
            <a:endParaRPr b="0" lang="en-US" sz="1800" spc="-1" strike="noStrike">
              <a:solidFill>
                <a:srgbClr val="000000"/>
              </a:solidFill>
              <a:latin typeface="Times New Roman"/>
            </a:endParaRPr>
          </a:p>
        </p:txBody>
      </p:sp>
      <p:graphicFrame>
        <p:nvGraphicFramePr>
          <p:cNvPr id="124" name=""/>
          <p:cNvGraphicFramePr/>
          <p:nvPr/>
        </p:nvGraphicFramePr>
        <p:xfrm>
          <a:off x="685800" y="2768760"/>
          <a:ext cx="3848040" cy="2577960"/>
        </p:xfrm>
        <a:graphic>
          <a:graphicData uri="http://schemas.openxmlformats.org/presentationml/2006/ole">
            <p:oleObj r:id="rId1" spid="">
              <p:embed/>
              <p:pic>
                <p:nvPicPr>
                  <p:cNvPr id="125" name="" descr=""/>
                  <p:cNvPicPr/>
                  <p:nvPr/>
                </p:nvPicPr>
                <p:blipFill>
                  <a:blip r:embed="rId2"/>
                  <a:stretch/>
                </p:blipFill>
                <p:spPr>
                  <a:xfrm>
                    <a:off x="685800" y="2768760"/>
                    <a:ext cx="3848040" cy="257796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6495706-E05C-45F4-8223-E49B17C6FB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the poll frame has an IEEE 802.3 format not an Ethernet V2 form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has caused problems with certain bridges which change the format of the frames that they send to a host based on the format of the last frame seen from the ho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cept for these frames all frames must be Ethernet V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 must be configured NOT to learn frame type based on received fr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8050F0C-F76B-4694-944F-6644D51AB2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225960" y="5305320"/>
            <a:ext cx="888840" cy="2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a:t>
            </a:r>
            <a:endParaRPr b="0" lang="en-US" sz="1200" spc="-1" strike="noStrike">
              <a:solidFill>
                <a:srgbClr val="000000"/>
              </a:solidFill>
              <a:latin typeface="Times New Roman"/>
            </a:endParaRPr>
          </a:p>
        </p:txBody>
      </p:sp>
      <p:sp>
        <p:nvSpPr>
          <p:cNvPr id="129" name=""/>
          <p:cNvSpPr/>
          <p:nvPr/>
        </p:nvSpPr>
        <p:spPr>
          <a:xfrm>
            <a:off x="2082960" y="5305320"/>
            <a:ext cx="888840" cy="2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us</a:t>
            </a:r>
            <a:endParaRPr b="0" lang="en-US" sz="1200" spc="-1" strike="noStrike">
              <a:solidFill>
                <a:srgbClr val="000000"/>
              </a:solidFill>
              <a:latin typeface="Times New Roman"/>
            </a:endParaRPr>
          </a:p>
        </p:txBody>
      </p:sp>
      <p:sp>
        <p:nvSpPr>
          <p:cNvPr id="130" name=""/>
          <p:cNvSpPr/>
          <p:nvPr/>
        </p:nvSpPr>
        <p:spPr>
          <a:xfrm>
            <a:off x="4368960" y="5305320"/>
            <a:ext cx="888840" cy="2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B</a:t>
            </a:r>
            <a:endParaRPr b="0" lang="en-US" sz="1200" spc="-1" strike="noStrike">
              <a:solidFill>
                <a:srgbClr val="000000"/>
              </a:solidFill>
              <a:latin typeface="Times New Roman"/>
            </a:endParaRPr>
          </a:p>
        </p:txBody>
      </p:sp>
      <p:sp>
        <p:nvSpPr>
          <p:cNvPr id="131" name=""/>
          <p:cNvSpPr/>
          <p:nvPr/>
        </p:nvSpPr>
        <p:spPr>
          <a:xfrm>
            <a:off x="5511960" y="5305320"/>
            <a:ext cx="888840" cy="25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C</a:t>
            </a:r>
            <a:endParaRPr b="0" lang="en-US" sz="1200" spc="-1" strike="noStrike">
              <a:solidFill>
                <a:srgbClr val="000000"/>
              </a:solidFill>
              <a:latin typeface="Times New Roman"/>
            </a:endParaRPr>
          </a:p>
        </p:txBody>
      </p:sp>
      <p:sp>
        <p:nvSpPr>
          <p:cNvPr id="132" name=""/>
          <p:cNvSpPr/>
          <p:nvPr/>
        </p:nvSpPr>
        <p:spPr>
          <a:xfrm>
            <a:off x="4876920" y="4572000"/>
            <a:ext cx="1066680" cy="2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Switch 2</a:t>
            </a:r>
            <a:endParaRPr b="0" lang="en-US" sz="1200" spc="-1" strike="noStrike">
              <a:solidFill>
                <a:srgbClr val="000000"/>
              </a:solidFill>
              <a:latin typeface="Times New Roman"/>
            </a:endParaRPr>
          </a:p>
        </p:txBody>
      </p:sp>
      <p:sp>
        <p:nvSpPr>
          <p:cNvPr id="133" name=""/>
          <p:cNvSpPr/>
          <p:nvPr/>
        </p:nvSpPr>
        <p:spPr>
          <a:xfrm>
            <a:off x="2743200" y="4572000"/>
            <a:ext cx="1066680" cy="2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Switch 1</a:t>
            </a:r>
            <a:endParaRPr b="0" lang="en-US" sz="1200" spc="-1" strike="noStrike">
              <a:solidFill>
                <a:srgbClr val="000000"/>
              </a:solidFill>
              <a:latin typeface="Times New Roman"/>
            </a:endParaRPr>
          </a:p>
        </p:txBody>
      </p:sp>
      <p:sp>
        <p:nvSpPr>
          <p:cNvPr id="134" name=""/>
          <p:cNvSpPr/>
          <p:nvPr/>
        </p:nvSpPr>
        <p:spPr>
          <a:xfrm>
            <a:off x="3728880" y="484812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105520" y="482904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91320" y="482904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2438280" y="4828680"/>
            <a:ext cx="53352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743200" y="4828680"/>
            <a:ext cx="213372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21040" y="466560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38280" y="3886200"/>
            <a:ext cx="1290600" cy="2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Router 1</a:t>
            </a:r>
            <a:endParaRPr b="0" lang="en-US" sz="1200" spc="-1" strike="noStrike">
              <a:solidFill>
                <a:srgbClr val="000000"/>
              </a:solidFill>
              <a:latin typeface="Times New Roman"/>
            </a:endParaRPr>
          </a:p>
        </p:txBody>
      </p:sp>
      <p:sp>
        <p:nvSpPr>
          <p:cNvPr id="141" name=""/>
          <p:cNvSpPr/>
          <p:nvPr/>
        </p:nvSpPr>
        <p:spPr>
          <a:xfrm>
            <a:off x="4948200" y="3886200"/>
            <a:ext cx="1224000" cy="25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Router 2</a:t>
            </a:r>
            <a:endParaRPr b="0" lang="en-US" sz="1200" spc="-1" strike="noStrike">
              <a:solidFill>
                <a:srgbClr val="000000"/>
              </a:solidFill>
              <a:latin typeface="Times New Roman"/>
            </a:endParaRPr>
          </a:p>
        </p:txBody>
      </p:sp>
      <p:sp>
        <p:nvSpPr>
          <p:cNvPr id="142" name=""/>
          <p:cNvSpPr/>
          <p:nvPr/>
        </p:nvSpPr>
        <p:spPr>
          <a:xfrm>
            <a:off x="3225960" y="4143240"/>
            <a:ext cx="0" cy="4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511960" y="4143240"/>
            <a:ext cx="0" cy="42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760920" y="3886200"/>
            <a:ext cx="1127160" cy="2570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Router 1</a:t>
            </a:r>
            <a:endParaRPr b="0" lang="en-US" sz="1200" spc="-1" strike="noStrike">
              <a:solidFill>
                <a:srgbClr val="000000"/>
              </a:solidFill>
              <a:latin typeface="Times New Roman"/>
            </a:endParaRPr>
          </a:p>
        </p:txBody>
      </p:sp>
      <p:sp>
        <p:nvSpPr>
          <p:cNvPr id="145" name=""/>
          <p:cNvSpPr/>
          <p:nvPr/>
        </p:nvSpPr>
        <p:spPr>
          <a:xfrm rot="898200">
            <a:off x="3444480" y="2168640"/>
            <a:ext cx="2341440" cy="175248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728880" y="2666880"/>
            <a:ext cx="152424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ernet</a:t>
            </a:r>
            <a:endParaRPr b="0" lang="en-US" sz="2400" spc="-1" strike="noStrike">
              <a:solidFill>
                <a:srgbClr val="000000"/>
              </a:solidFill>
              <a:latin typeface="Times New Roman"/>
            </a:endParaRPr>
          </a:p>
        </p:txBody>
      </p:sp>
      <p:sp>
        <p:nvSpPr>
          <p:cNvPr id="147" name=""/>
          <p:cNvSpPr/>
          <p:nvPr/>
        </p:nvSpPr>
        <p:spPr>
          <a:xfrm>
            <a:off x="2705040" y="2959200"/>
            <a:ext cx="800280" cy="939600"/>
          </a:xfrm>
          <a:custGeom>
            <a:avLst/>
            <a:gdLst/>
            <a:ahLst/>
            <a:rect l="l" t="t" r="r" b="b"/>
            <a:pathLst>
              <a:path w="504" h="592">
                <a:moveTo>
                  <a:pt x="0" y="592"/>
                </a:moveTo>
                <a:cubicBezTo>
                  <a:pt x="17" y="525"/>
                  <a:pt x="38" y="455"/>
                  <a:pt x="64" y="392"/>
                </a:cubicBezTo>
                <a:cubicBezTo>
                  <a:pt x="73" y="370"/>
                  <a:pt x="85" y="349"/>
                  <a:pt x="96" y="328"/>
                </a:cubicBezTo>
                <a:cubicBezTo>
                  <a:pt x="108" y="304"/>
                  <a:pt x="144" y="264"/>
                  <a:pt x="144" y="264"/>
                </a:cubicBezTo>
                <a:cubicBezTo>
                  <a:pt x="163" y="206"/>
                  <a:pt x="167" y="176"/>
                  <a:pt x="216" y="144"/>
                </a:cubicBezTo>
                <a:cubicBezTo>
                  <a:pt x="221" y="128"/>
                  <a:pt x="221" y="109"/>
                  <a:pt x="232" y="96"/>
                </a:cubicBezTo>
                <a:cubicBezTo>
                  <a:pt x="271" y="47"/>
                  <a:pt x="354" y="34"/>
                  <a:pt x="408" y="16"/>
                </a:cubicBezTo>
                <a:cubicBezTo>
                  <a:pt x="439" y="6"/>
                  <a:pt x="504" y="0"/>
                  <a:pt x="504" y="0"/>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
          <p:cNvSpPr/>
          <p:nvPr/>
        </p:nvSpPr>
        <p:spPr>
          <a:xfrm>
            <a:off x="5676840" y="2882880"/>
            <a:ext cx="444600" cy="1003320"/>
          </a:xfrm>
          <a:custGeom>
            <a:avLst/>
            <a:gdLst/>
            <a:ahLst/>
            <a:rect l="l" t="t" r="r" b="b"/>
            <a:pathLst>
              <a:path w="280" h="632">
                <a:moveTo>
                  <a:pt x="0" y="64"/>
                </a:moveTo>
                <a:cubicBezTo>
                  <a:pt x="24" y="48"/>
                  <a:pt x="48" y="32"/>
                  <a:pt x="72" y="16"/>
                </a:cubicBezTo>
                <a:cubicBezTo>
                  <a:pt x="86" y="7"/>
                  <a:pt x="120" y="0"/>
                  <a:pt x="120" y="0"/>
                </a:cubicBezTo>
                <a:cubicBezTo>
                  <a:pt x="172" y="13"/>
                  <a:pt x="184" y="32"/>
                  <a:pt x="224" y="72"/>
                </a:cubicBezTo>
                <a:cubicBezTo>
                  <a:pt x="235" y="83"/>
                  <a:pt x="256" y="104"/>
                  <a:pt x="256" y="104"/>
                </a:cubicBezTo>
                <a:cubicBezTo>
                  <a:pt x="261" y="120"/>
                  <a:pt x="267" y="136"/>
                  <a:pt x="272" y="152"/>
                </a:cubicBezTo>
                <a:cubicBezTo>
                  <a:pt x="275" y="160"/>
                  <a:pt x="280" y="176"/>
                  <a:pt x="280" y="176"/>
                </a:cubicBezTo>
                <a:cubicBezTo>
                  <a:pt x="276" y="229"/>
                  <a:pt x="279" y="315"/>
                  <a:pt x="216" y="336"/>
                </a:cubicBezTo>
                <a:cubicBezTo>
                  <a:pt x="195" y="367"/>
                  <a:pt x="163" y="396"/>
                  <a:pt x="128" y="408"/>
                </a:cubicBezTo>
                <a:cubicBezTo>
                  <a:pt x="104" y="432"/>
                  <a:pt x="84" y="437"/>
                  <a:pt x="56" y="456"/>
                </a:cubicBezTo>
                <a:cubicBezTo>
                  <a:pt x="53" y="465"/>
                  <a:pt x="33" y="524"/>
                  <a:pt x="32" y="528"/>
                </a:cubicBezTo>
                <a:cubicBezTo>
                  <a:pt x="29" y="536"/>
                  <a:pt x="24" y="552"/>
                  <a:pt x="24" y="552"/>
                </a:cubicBezTo>
                <a:cubicBezTo>
                  <a:pt x="21" y="579"/>
                  <a:pt x="16" y="632"/>
                  <a:pt x="16" y="632"/>
                </a:cubicBezTo>
              </a:path>
            </a:pathLst>
          </a:custGeom>
          <a:no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tratagy 1998 - San Diego</a:t>
            </a:r>
          </a:p>
        </p:txBody>
      </p:sp>
      <p:sp>
        <p:nvSpPr>
          <p:cNvPr id="3" name="PlaceHolder 2"/>
          <p:cNvSpPr>
            <a:spLocks noGrp="1"/>
          </p:cNvSpPr>
          <p:nvPr>
            <p:ph type="sldNum" idx="3"/>
          </p:nvPr>
        </p:nvSpPr>
        <p:spPr/>
        <p:txBody>
          <a:bodyPr/>
          <a:p>
            <a:fld id="{A385FBDC-78DF-4514-95E7-C6036A73DFE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filte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hardware must be configured to allow these 802.3 frames thr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3 frames are invalid - network hardware must allow th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FB9C1D6-0357-45F7-955E-6A0C99EAF1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s directly connected to switch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cache issu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lmux switches the interface the switch will not know it until something is sent. Until then any traffic for the interface will be forwarded to the switch port now connected to the standby interface - so we will not see 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8EBA725E-3499-46A4-AC5D-1AC933C022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s directly connected to switch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ning tree issu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switch recognizes that a host has moved (changed ports) it may go through a period of learning/listening to reconfigure its spanning tree. During this time no traffic is forwarded from or to the por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lmux_test_interval$ must be longer than this learning/listening period or we can get into a condition where dlmux is always switching</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can also turn the spanning tree off on the switch if that is an op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BEADD80-848D-456B-91D8-CD7FFA74CB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module_start_up - notes</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ad kernel progr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ed after the hardware drivers loaded and before any of the TCP stu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ed even if no interfaces are configured with a part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network interfaces will not function properly until dlmux driver is loa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57A9D7E-D715-4EAF-BC31-013A84E11E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module_start_up - example</a:t>
            </a:r>
            <a:endParaRPr b="0" lang="en-US" sz="4400" spc="-1" strike="noStrike">
              <a:solidFill>
                <a:srgbClr val="000000"/>
              </a:solidFill>
              <a:latin typeface="Times New Roman"/>
            </a:endParaRPr>
          </a:p>
        </p:txBody>
      </p:sp>
      <p:sp>
        <p:nvSpPr>
          <p:cNvPr id="158"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ad_kernel_program &gt;system&gt;tcp_os&gt;bdl      drive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ad_kernel_program &gt;system&gt;tcp_os&gt;gdl      driver</a:t>
            </a: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ad_kernel_program &gt;system&gt;tcp_os&gt;dlmux    driver</a:t>
            </a:r>
            <a:endParaRPr b="0" lang="en-US" sz="20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ad_kernel_program &gt;system&gt;tcp_os&gt;tcp      driver</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oad_kernel_program &gt;system&gt;tcp_os&gt;tcp_kll  librar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te that bdl, gdl and dlmux will move to &gt;system&gt;kernel_loadable_library in VOS 13.4</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5E8FE25-0787-4BD1-A960-A7E3F434F5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l_mux is NO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not provide network load sharing across the two interfa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K450 and K460 will attempt to make the active network interface on the standby SCSI controller</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nd disk activity on separate board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9D89092-78B9-4575-9308-23551CD5C4C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devices.tin - notes</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meter data is enclosed in single quo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begins with a das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 device name includes the hash charac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mistakes will fail with no warnings or error messag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8AD464C-0C39-4FB7-AD58-889AAC1900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devices.tin - example</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name               tcp1.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ule_name        m1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type        ioa_gdma</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irmware_type      h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lot_no       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ubchannel_no 0</a:t>
            </a:r>
            <a:endParaRPr b="0" lang="en-US" sz="12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800" spc="-1" strike="noStrike">
                <a:solidFill>
                  <a:srgbClr val="000000"/>
                </a:solidFill>
                <a:latin typeface="Courier New"/>
              </a:rPr>
              <a:t>parameters         '-partner #tcp1.7'</a:t>
            </a:r>
            <a:endParaRPr b="0" lang="en-US" sz="1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name               tcp1.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ule_name        m1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type        ioa_gdma</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irmware_type      h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lot_no       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ubchannel_no 0</a:t>
            </a:r>
            <a:endParaRPr b="0" lang="en-US" sz="12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800" spc="-1" strike="noStrike">
                <a:solidFill>
                  <a:srgbClr val="000000"/>
                </a:solidFill>
                <a:latin typeface="Courier New"/>
              </a:rPr>
              <a:t>parameters         '-partner #tcp1.6'</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EE03D3C-6761-4D16-AF65-3790B7E4FD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partnering requirements</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like devices can be partne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ed K450s and K460s must be adjacent slo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nered K104s can be in any ioa slo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10997F7-8EBC-4638-9B3B-9D51EEFF73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br>
              <a:rPr sz="4400"/>
            </a:br>
            <a:r>
              <a:rPr b="0" lang="en-US" sz="4400" spc="-1" strike="noStrike">
                <a:solidFill>
                  <a:srgbClr val="000000"/>
                </a:solidFill>
                <a:latin typeface="Times New Roman"/>
              </a:rPr>
              <a:t>ifconfig’ing the interface</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an ‘ifconfig -addname’ of only 1 on the partner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comes the “name” of the interface regardless of which partner is active and which is stand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ing an ‘ifconfig -state down’ will bring down both interfa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oving the IP address from the networ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52D7150-542D-4A10-BAA0-FBFD41E7D3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messages</a:t>
            </a:r>
            <a:endParaRPr b="0" lang="en-US" sz="4400" spc="-1" strike="noStrike">
              <a:solidFill>
                <a:srgbClr val="000000"/>
              </a:solidFill>
              <a:latin typeface="Times New Roman"/>
            </a:endParaRPr>
          </a:p>
        </p:txBody>
      </p:sp>
      <p:sp>
        <p:nvSpPr>
          <p:cNvPr id="168" name="PlaceHolder 2"/>
          <p:cNvSpPr>
            <a:spLocks noGrp="1"/>
          </p:cNvSpPr>
          <p:nvPr>
            <p:ph/>
          </p:nvPr>
        </p:nvSpPr>
        <p:spPr>
          <a:xfrm>
            <a:off x="152280" y="1981080"/>
            <a:ext cx="883944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5:28:28  dlmux_timers.c: 952: dlmux_generate_rsn_call: Device %swok3#hsc_enet.m</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4 not responding to DLMUX testing</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d no more than once per day per adap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count &gt;= 1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increated every time test message fai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 decremented every time test message succee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not go below 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4381E59-C052-46C7-AA6C-C5852F313E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messages</a:t>
            </a:r>
            <a:endParaRPr b="0" lang="en-US" sz="4400" spc="-1" strike="noStrike">
              <a:solidFill>
                <a:srgbClr val="000000"/>
              </a:solidFill>
              <a:latin typeface="Times New Roman"/>
            </a:endParaRPr>
          </a:p>
        </p:txBody>
      </p:sp>
      <p:sp>
        <p:nvSpPr>
          <p:cNvPr id="170" name="PlaceHolder 2"/>
          <p:cNvSpPr>
            <a:spLocks noGrp="1"/>
          </p:cNvSpPr>
          <p:nvPr>
            <p:ph/>
          </p:nvPr>
        </p:nvSpPr>
        <p:spPr>
          <a:xfrm>
            <a:off x="152280" y="1981080"/>
            <a:ext cx="883944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01:59  dlmux_timers.c: 605: dlmux_generate_failover: failing over adapter %p</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x_cac_j#enet.13.2 to adapter %phx_cac_j#enet.1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when dlmux changes the active interface because of a test message fail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5799F54-8C7F-4D84-94E5-A4DB369B35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messages</a:t>
            </a:r>
            <a:endParaRPr b="0" lang="en-US" sz="4400" spc="-1" strike="noStrike">
              <a:solidFill>
                <a:srgbClr val="000000"/>
              </a:solidFill>
              <a:latin typeface="Times New Roman"/>
            </a:endParaRPr>
          </a:p>
        </p:txBody>
      </p:sp>
      <p:sp>
        <p:nvSpPr>
          <p:cNvPr id="172" name="PlaceHolder 2"/>
          <p:cNvSpPr>
            <a:spLocks noGrp="1"/>
          </p:cNvSpPr>
          <p:nvPr>
            <p:ph/>
          </p:nvPr>
        </p:nvSpPr>
        <p:spPr>
          <a:xfrm>
            <a:off x="228600" y="2133720"/>
            <a:ext cx="876312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03:55  dlmux_control.c: 711: dlmux_generate_failover: failing over adapter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hx_cac_j#enet.13.3 to adapter %phx_cac_j#enet.1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when a manual failover is done via dlmux_admin comma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CADF5FF-EA17-4AD6-8849-592744C122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ssages</a:t>
            </a:r>
            <a:endParaRPr b="0" lang="en-US" sz="4400" spc="-1" strike="noStrike">
              <a:solidFill>
                <a:srgbClr val="000000"/>
              </a:solidFill>
              <a:latin typeface="Times New Roman"/>
            </a:endParaRPr>
          </a:p>
        </p:txBody>
      </p:sp>
      <p:sp>
        <p:nvSpPr>
          <p:cNvPr id="174" name="PlaceHolder 2"/>
          <p:cNvSpPr>
            <a:spLocks noGrp="1"/>
          </p:cNvSpPr>
          <p:nvPr>
            <p:ph/>
          </p:nvPr>
        </p:nvSpPr>
        <p:spPr>
          <a:xfrm>
            <a:off x="152280" y="1981080"/>
            <a:ext cx="883944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29:53  GDL device id: 04/06  Carrier is lost.</a:t>
            </a: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by gdl when it noticies that an interface has lost carrier</a:t>
            </a:r>
            <a:endParaRPr b="0" lang="en-US" sz="32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33:32  GDL device id: 04/06  Carrier is restored.</a:t>
            </a: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by gdl when it noticies that an interface regained carri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C211947E-E408-429E-9E60-3B853DADCB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ssages</a:t>
            </a:r>
            <a:endParaRPr b="0" lang="en-US" sz="4400" spc="-1" strike="noStrike">
              <a:solidFill>
                <a:srgbClr val="000000"/>
              </a:solidFill>
              <a:latin typeface="Times New Roman"/>
            </a:endParaRPr>
          </a:p>
        </p:txBody>
      </p:sp>
      <p:sp>
        <p:nvSpPr>
          <p:cNvPr id="176" name="PlaceHolder 2"/>
          <p:cNvSpPr>
            <a:spLocks noGrp="1"/>
          </p:cNvSpPr>
          <p:nvPr>
            <p:ph/>
          </p:nvPr>
        </p:nvSpPr>
        <p:spPr>
          <a:xfrm>
            <a:off x="75960" y="1981080"/>
            <a:ext cx="8915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58:44  bdl_io.c: 613: bdl_hsc_scan_sent_ques: K460 in slot 3 lost carrier</a:t>
            </a:r>
            <a:endParaRPr b="0" lang="en-US" sz="1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by bdl_io when it noticies that an interface has lost carri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00:59  bdl_io.c: 624: bdl_hsc_scan_sent_ques: K460 in slot 3 had carrier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stored</a:t>
            </a:r>
            <a:endParaRPr b="0" lang="en-US" sz="1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d by bdl_io when it noticies that an interface has carri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D1362F7-C398-427D-B3C8-F507CD2009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ssages</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01:59  Cannot duplex slot 5 - enet state:7 partner state: 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be seen during bo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md-585, fixed in 13.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also be seen after a failover mess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long as dlmux shows both partners UP don’t worr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0FD1001-A4BA-4A9F-AF7E-56D6AF15B0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tion</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S 13.2</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E of the VOS OS TCP/IP Administrator’s Guide (R223-04)</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S 13.3</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A of the VOS OS TCP/IP Administrator’s Guide (R223-5)</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S 14.1.0 (STCP rele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S Data-Link Multiplexer Administrator’s Guide (R42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C8A4957-84E0-4F45-B1CB-CAE9325DA5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ssages</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06:04  Cannot pair slots 3 and 2 - enet ports not pair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ERR            {52018013 Diagnostic_Utility.System}</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06:04  Slot 3 enet state: 7 partner state: 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ERR            {52018013 Diagnostic_Utility.System}</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06:04  Slots 2 and 3 are now running pair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ERR            {52018013 Diagnostic_Utility.System}</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ears in syserr_log only (not console output) after a failover in 13.4 syste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8C1E411-E3E9-4C0C-898A-23DADB13B1E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 Light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 Ligh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s (not necessarily disks) and ENET duplexed or boards duplexed and ENET not configur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 and Yellow L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ards not duplexed or ENET configured but not duplex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versions of dlmux may not do th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3 does it righ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E18B50D-F4AA-4CBA-8585-4E76576F52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and OSL</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L can failover to another logical link before DLMUX can switch to another physical network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ther OSL will failover to another logical link or the DLMUX will failover to another physical link depends on the timing of ev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OSL has sent some packets and TCP has received its ACKs and OSL is just waiting for the other host’s OSL to respond, then OSL will probably not failov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CP has not received an ACK then it will retransmit and this time be told that the carrier is down and DLMUX will failov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8037EC0-8218-4419-91FC-E591BF1FA7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and OSL</a:t>
            </a:r>
            <a:br>
              <a:rPr sz="4400"/>
            </a:br>
            <a:r>
              <a:rPr b="0" lang="en-US" sz="4400" spc="-1" strike="noStrike">
                <a:solidFill>
                  <a:srgbClr val="000000"/>
                </a:solidFill>
                <a:latin typeface="Times New Roman"/>
              </a:rPr>
              <a:t>phase 1</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connection request timer is 7 second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djustab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connection is established OSL expects a response within 100 seconds (by defaul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controlled by the -response_timeout parameter of the open_stratalink_cli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A17D94D-1CA4-43EA-B2D8-A0E7DA7CE3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and OSL</a:t>
            </a:r>
            <a:br>
              <a:rPr sz="4400"/>
            </a:br>
            <a:r>
              <a:rPr b="0" lang="en-US" sz="4400" spc="-1" strike="noStrike">
                <a:solidFill>
                  <a:srgbClr val="000000"/>
                </a:solidFill>
                <a:latin typeface="Times New Roman"/>
              </a:rPr>
              <a:t>phase 2</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connection request timer is by default 7 second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able via the kernel parameter osl_connect_timeou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connection is established OSL expects a response within 70 seconds (by defaul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able via the kernel parameters osl_xfer_time$ and osl_xfer_tri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DA89357-6823-462F-8F54-2EEDE0F7E9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lmux and OSL</a:t>
            </a:r>
            <a:br>
              <a:rPr sz="4400"/>
            </a:br>
            <a:r>
              <a:rPr b="0" lang="en-US" sz="4400" spc="-1" strike="noStrike">
                <a:solidFill>
                  <a:srgbClr val="000000"/>
                </a:solidFill>
                <a:latin typeface="Times New Roman"/>
              </a:rPr>
              <a:t>phase 2</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out is</a:t>
            </a:r>
            <a:endParaRPr b="0" lang="en-US" sz="32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l_xfer_time$ + (osl_xfer_time$ * osl_xfer_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 values a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l_xfer_time$ 10 second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l_xfer_tries$ 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1B91882-C9A9-4301-B9E2-2A06B970B3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lmux_admin command</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dlmux_admin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nam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ction:      get_statu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artner:</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ctions: get_status, add_partner, delete_partner, failover</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_admin #tcp1.6 get_statu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vice Name:         %phx_cac_j#tcp1.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apter State:       </a:t>
            </a:r>
            <a:r>
              <a:rPr b="1" lang="en-US" sz="1200" spc="-1" strike="noStrike">
                <a:solidFill>
                  <a:srgbClr val="000000"/>
                </a:solidFill>
                <a:latin typeface="Courier New"/>
              </a:rPr>
              <a:t>ACTIVE</a:t>
            </a:r>
            <a:r>
              <a:rPr b="0" lang="en-US" sz="1200" spc="-1" strike="noStrike">
                <a:solidFill>
                  <a:srgbClr val="000000"/>
                </a:solidFill>
                <a:latin typeface="Courier New"/>
              </a:rPr>
              <a:t>   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tner:             %phx_cac_j#tcp1.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tner State:       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_admin #tcp1.7 get_statu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vice Name:         %phx_cac_j#tcp1.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apter State:       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tner:             %phx_cac_j#tcp1.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tner State:       </a:t>
            </a:r>
            <a:r>
              <a:rPr b="1" lang="en-US" sz="1200" spc="-1" strike="noStrike">
                <a:solidFill>
                  <a:srgbClr val="000000"/>
                </a:solidFill>
                <a:latin typeface="Courier New"/>
              </a:rPr>
              <a:t>ACTIVE</a:t>
            </a:r>
            <a:r>
              <a:rPr b="0" lang="en-US" sz="1200" spc="-1" strike="noStrike">
                <a:solidFill>
                  <a:srgbClr val="000000"/>
                </a:solidFill>
                <a:latin typeface="Courier New"/>
              </a:rPr>
              <a:t>   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B3C5492-EE29-47A8-AF0D-29841FF6156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manual failover to partner</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manually failover you must issue dlmux_admin using the standby interfaces name and the failover a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a:t>
            </a:r>
            <a:endParaRPr b="0" lang="en-US" sz="3200" spc="-1" strike="noStrike">
              <a:solidFill>
                <a:srgbClr val="0000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_admin #enet.13.6 failover</a:t>
            </a:r>
            <a:endParaRPr b="0" lang="en-US" sz="1200" spc="-1" strike="noStrike">
              <a:solidFill>
                <a:srgbClr val="0000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_admin: The requested operation is inconsistent with the current device state.</a:t>
            </a:r>
            <a:endParaRPr b="0" lang="en-US" sz="1200" spc="-1" strike="noStrike">
              <a:solidFill>
                <a:srgbClr val="0000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7:02:23</a:t>
            </a:r>
            <a:endParaRPr b="0" lang="en-US" sz="1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a:t>
            </a:r>
            <a:endParaRPr b="0" lang="en-US" sz="3200" spc="-1" strike="noStrike">
              <a:solidFill>
                <a:srgbClr val="0000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_admin #enet.13.7 failover</a:t>
            </a:r>
            <a:endParaRPr b="0" lang="en-US" sz="1200" spc="-1" strike="noStrike">
              <a:solidFill>
                <a:srgbClr val="000000"/>
              </a:solidFill>
              <a:latin typeface="Times New Roman"/>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7:02:3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BED5F46-AFF9-4C54-9993-BC8C83522E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dlmux_info</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dump_dlmux_info</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mux adapter entry @0xE4EC738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phx_cac_j#tcp1.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 id:                    0408FFF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te:                        ope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ags:                        rsvd asgnd</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index: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lient_index: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type:                 55</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c_addr:                     0000A880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vtep:                        C0BB23C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8BF4F4A6-1BF5-4432-8EFF-3CA4A9C166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dlmux_info</a:t>
            </a:r>
            <a:endParaRPr b="0" lang="en-US" sz="4400" spc="-1" strike="noStrike">
              <a:solidFill>
                <a:srgbClr val="000000"/>
              </a:solidFill>
              <a:latin typeface="Times New Roman"/>
            </a:endParaRPr>
          </a:p>
        </p:txBody>
      </p:sp>
      <p:sp>
        <p:nvSpPr>
          <p:cNvPr id="198" name="PlaceHolder 2"/>
          <p:cNvSpPr>
            <a:spLocks noGrp="1"/>
          </p:cNvSpPr>
          <p:nvPr>
            <p:ph/>
          </p:nvPr>
        </p:nvSpPr>
        <p:spPr>
          <a:xfrm>
            <a:off x="609480" y="1828800"/>
            <a:ext cx="7772400" cy="4114800"/>
          </a:xfrm>
          <a:prstGeom prst="rect">
            <a:avLst/>
          </a:prstGeom>
          <a:noFill/>
          <a:ln w="0">
            <a:noFill/>
          </a:ln>
        </p:spPr>
        <p:txBody>
          <a:bodyPr lIns="92160" rIns="92160" tIns="46080" bIns="4608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mux adapter entry @0xE4EC752C</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tcp1.6</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 id:                    0406FFFF</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tate:                        open</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s:                        testing rsvd asgn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index:                2</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lient_index: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type:                 55</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mac_addr:                     0000A88186D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vtep:                        C0BB20C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mux adapter entry @0xE4EC7600</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tcp1.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 id:                    0407FFFF</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state:                        test open</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lags:                        partner testing rsvd asgnd</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index:                3</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lient_index:                 1</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type:                 55</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000000"/>
                </a:solidFill>
                <a:latin typeface="Courier New"/>
              </a:rPr>
              <a:t>mac_addr:                     0000A8A186D7</a:t>
            </a:r>
            <a:endParaRPr b="0" lang="en-US" sz="1000" spc="-1" strike="noStrike">
              <a:solidFill>
                <a:srgbClr val="000000"/>
              </a:solidFill>
              <a:latin typeface="Times New Roman"/>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vtep:                        C0BB224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712AFB8-34DB-47C8-A48A-1395EC3F85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graphicFrame>
        <p:nvGraphicFramePr>
          <p:cNvPr id="60" name=""/>
          <p:cNvGraphicFramePr/>
          <p:nvPr/>
        </p:nvGraphicFramePr>
        <p:xfrm>
          <a:off x="380880" y="1523880"/>
          <a:ext cx="8453520" cy="4792680"/>
        </p:xfrm>
        <a:graphic>
          <a:graphicData uri="http://schemas.openxmlformats.org/presentationml/2006/ole">
            <p:oleObj r:id="rId1" spid="">
              <p:embed/>
              <p:pic>
                <p:nvPicPr>
                  <p:cNvPr id="61" name="" descr=""/>
                  <p:cNvPicPr/>
                  <p:nvPr/>
                </p:nvPicPr>
                <p:blipFill>
                  <a:blip r:embed="rId2"/>
                  <a:stretch/>
                </p:blipFill>
                <p:spPr>
                  <a:xfrm>
                    <a:off x="380880" y="1523880"/>
                    <a:ext cx="8453520" cy="4792680"/>
                  </a:xfrm>
                  <a:prstGeom prst="rect">
                    <a:avLst/>
                  </a:prstGeom>
                  <a:ln w="0">
                    <a:noFill/>
                  </a:ln>
                </p:spPr>
              </p:pic>
            </p:oleObj>
          </a:graphicData>
        </a:graphic>
      </p:graphicFrame>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F2B1373F-CF73-40D0-97D0-3CCCED40DC9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dlmux_info flag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n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device is the "secondary" devi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lmux is currently testing this devic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_reserved (rsv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e_device has been called by the dlmux</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_assigned (asgn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_device has been called by the dlmux</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_select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er has issued a 'failover' for this device using the dlmux_admin comman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9B1D395-B9F3-41ED-9E1B-15D99772468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netstat -detail” - notes</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stat -detail #INTERFACE will provide details only for activ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stics are reset after a failov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way to get statistics for standby K104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mp_bdl_entry can be used to display statistics for standby K450 and K46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523C070-76DC-48AE-AA6A-13BF39003E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netstat -detail” - example</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stat -detail #tcp1.6</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face Summary:</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face Number: 1     Device Name: #tcp1.6         IP Address: 10.1.1.1</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imum Transmit Unit (MTU): 150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e Speed                 : 1000000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ministrative Status      : UP</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perational Status         : UP</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PUT          OUTPUT</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ackets           :     82             34</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ctets            :     5381           2236</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rrors            :     0              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iscards          :     28             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cast Packets     :     77</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Ucast Packets    :     5</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ut Qlen          :     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Unknown Protocols :     2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EE4282F-CC6B-4F78-A59D-F438B03538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netstat -detail” - example</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209320"/>
            <a:ext cx="7772400" cy="38862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 Statistic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 Type   : CSMA/CD                             MAC Address: 00:00:a8:8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frames                          : 7703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multicast and broadcast frames  : 7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octets                          : 524508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ted frames                       : 42380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ted octets                       : 4130254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AN Chipset re-initialized               : 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QE erro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ring full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frame discarded, late collisions: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frame was deferred              : 69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frame after a single retry      : 8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frame after multiple retry      : 6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 frame discarded, excessive retry: 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C1A18A5-DDBC-4145-9B93-CCD82AEB3DF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netstat -detail” - example</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lack of buffe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improper framing: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an overflow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bad CRC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bad addres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 frame discarded, congestion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 Summa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ted frames         : 42380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nsmitted octets         : 4130254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transmitted frames       : 84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frames            : 7711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octets            : 524508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eived invalid frames    : 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B05282B-77EE-4E26-B7C4-0692BE3E3B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gdl_entry” - example</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dump_gdl_entry 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DL ADAPTER ENT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ry                        : 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 ADAPTER_CONN (2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lags: COME_UP_RUNNING</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vice_id                    : 0406FFF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op_slot                     :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oa_slot                     : 000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oard_type                   : K104 (6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_type                     : ETHERNET_CSMACD (6)</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c_addr                     : 00:00:a8:81: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_change_callback        : dlmux_control+3E80, line 2564 (E4EC0E8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ree_buf_call                : bufman+1378, line 1367 (E4E0773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et_buf_call                 : tcp_dlm_utils+488, line 162 (E4E1D308)</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ACDB9F4-CA24-4A35-B7CF-D579F9F163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gdl_entry” - example</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buf_up_call              : dlmux_io+3E0, line 363 (E4EC2DE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ut_attr_up_call             : dlmux_control+39C8, line 2270 (E4EC09C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tr_descp                   : 0000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tr_bufp                    : 0000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tr_len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APTER ERROR STATISTIC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data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data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ctrl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ctrl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rpc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rpc_callback error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GIZA CHANS TO/FROM ADAPTER----</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data_chan               :  0100010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data_chan               :  0100010C</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AD368C7-B173-44BB-8AA5-1BB4E3316A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gdl_entry” - example</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rpc_chan                :  0100011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rpc_chan                :  0100011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end_ctrl_chan               :  0100003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_ctrl_chan               :  0100003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UFFER HANDL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ree handle ptr              : C0C8F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ree handle cnt              : 6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mit handles pending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cv handles pending         : 19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MAN REQUEST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ree con bufp                : C0C8A3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ree ctrl bufp               : C0C8B9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FEF863B-8D8A-4055-8226-FC9A6946413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bdl_entry” - example</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dump_bdl_entry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DL ADAPTER ENT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try                   :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tate           : BDL_ADAPTER_CON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io_device_id           : 0205FFF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nfig_word             : 3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oard_type              : HSC (5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ac_addr:               : 0000A88286D7</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te_change_callback   : dlmux_control+3AD8, line 2318 (E4EC0AD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ree_buf_call           : bufman+1378, line 1367 (E4E0773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et_buf_call            : tcp_dlm_utils+488, line 162 (E4E1D30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buf_up_call         : dlmux_io+288, line 286 (E4EC2C8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ut_attr_up_call        : dlmux_control+38B8, line 2222 (E4EC08B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057684B-82F4-4402-BAA8-F4B6E6551C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bdl_entry” - example</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DAPTER ERROR STATISTIC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frame_er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short_frame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long_frame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lost_carrie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no_carrie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dma_unde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dma_over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no_eop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no_bde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max_xmit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no_buf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nt_lost_cts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06D11DA-F62A-447D-930C-9C3715D2F5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l_mux picks 1 interface to be the active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terface is given the primary MAC address 00:00:A8:</a:t>
            </a:r>
            <a:r>
              <a:rPr b="1" lang="en-US" sz="2800" spc="-1" strike="noStrike" u="sng">
                <a:solidFill>
                  <a:srgbClr val="000000"/>
                </a:solidFill>
                <a:uFillTx/>
                <a:latin typeface="Times New Roman"/>
              </a:rPr>
              <a:t>8</a:t>
            </a:r>
            <a:r>
              <a:rPr b="0" lang="en-US" sz="2800" spc="-1" strike="noStrike">
                <a:solidFill>
                  <a:srgbClr val="000000"/>
                </a:solidFill>
                <a:latin typeface="Times New Roman"/>
              </a:rPr>
              <a:t>v:wx:yz</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nterface is used to send all outgoing IP packets and receiving incoming IP packe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by interface is given the MAC address 00:00:A8:</a:t>
            </a:r>
            <a:r>
              <a:rPr b="1" lang="en-US" sz="3200" spc="-1" strike="noStrike" u="sng">
                <a:solidFill>
                  <a:srgbClr val="000000"/>
                </a:solidFill>
                <a:uFillTx/>
                <a:latin typeface="Times New Roman"/>
              </a:rPr>
              <a:t>A</a:t>
            </a:r>
            <a:r>
              <a:rPr b="0" lang="en-US" sz="3200" spc="-1" strike="noStrike">
                <a:solidFill>
                  <a:srgbClr val="000000"/>
                </a:solidFill>
                <a:latin typeface="Times New Roman"/>
              </a:rPr>
              <a:t>v:wx:yz</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D3A1FDE-06FB-4EA4-B343-813782CEC6D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dump_bdl_entry” - exam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DL Buffer Entry Queu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it_bh_pend_que        : 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it_bh_sent_queue      : 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v_bh_sent_queue      : C0C3B04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DL End Buffer Queu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DL BIO Driver Queu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de_free_queue          : C15E358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de_abort_queue         : C15D32C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mit bde sent queue     : 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ecv_bde_sent_queue     : 0000000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fer_bde_sent_queue     : 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trl_bde_sent_queue     : C15E5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End BIO Queue-----------</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E0A7FC8-6F2D-435D-B361-E125B564DA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When all else fails</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sure that card and hub are configured the same wa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running at 100 mbps try 10</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5 cable, connectors, or installation may be substandar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running full duplex try half duplex</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s not a K460 it MUST be half duple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running on a K104 make sure transceiver has SQE turned 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4B6F063-3139-4DDD-8B96-B12BCAC5FDE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When all else fails</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e the standby partn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lmux_admin -delete_partn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l with only 1 interface at a tim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5968DFD-A200-46B2-AE66-8F1EFB45A7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When at the end of your rope</a:t>
            </a:r>
            <a:endParaRPr b="0" lang="en-US" sz="4400" spc="-1" strike="noStrike">
              <a:solidFill>
                <a:srgbClr val="000000"/>
              </a:solidFill>
              <a:latin typeface="Times New Roman"/>
            </a:endParaRPr>
          </a:p>
        </p:txBody>
      </p:sp>
      <p:pic>
        <p:nvPicPr>
          <p:cNvPr id="226" name="" descr=""/>
          <p:cNvPicPr/>
          <p:nvPr/>
        </p:nvPicPr>
        <p:blipFill>
          <a:blip r:embed="rId1"/>
          <a:stretch/>
        </p:blipFill>
        <p:spPr>
          <a:xfrm>
            <a:off x="1219320" y="2133720"/>
            <a:ext cx="3971880" cy="3871800"/>
          </a:xfrm>
          <a:prstGeom prst="rect">
            <a:avLst/>
          </a:prstGeom>
          <a:ln w="0">
            <a:noFill/>
          </a:ln>
        </p:spPr>
      </p:pic>
      <p:sp>
        <p:nvSpPr>
          <p:cNvPr id="227" name=""/>
          <p:cNvSpPr/>
          <p:nvPr/>
        </p:nvSpPr>
        <p:spPr>
          <a:xfrm>
            <a:off x="5410080" y="3505320"/>
            <a:ext cx="28958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the CAC</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922B06AD-C99A-4D0B-8B6C-21F9049B85A1}" type="slidenum">
              <a:t>73</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dl_mux determines that the active interface is no longer connected to the net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waps the MAC addresses of the active and standby interface card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ompletely transparent to other hosts with connections to the modul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43653F9-34DE-40C4-AD78-8FE31E36AC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 </a:t>
            </a:r>
            <a:br>
              <a:rPr sz="4400"/>
            </a:br>
            <a:r>
              <a:rPr b="0" lang="en-US" sz="4400" spc="-1" strike="noStrike">
                <a:solidFill>
                  <a:srgbClr val="000000"/>
                </a:solidFill>
                <a:latin typeface="Times New Roman"/>
              </a:rPr>
              <a:t>Generating a new MAC addres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0:A8:8v:wx:yz</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Continuum system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dex of dl_mux entry</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x:yz</a:t>
            </a:r>
            <a:r>
              <a:rPr b="0" lang="en-US" sz="2400" spc="-1" strike="noStrike">
                <a:solidFill>
                  <a:srgbClr val="000000"/>
                </a:solidFill>
                <a:latin typeface="Times New Roman"/>
              </a:rPr>
              <a:t>	</a:t>
            </a:r>
            <a:r>
              <a:rPr b="0" lang="en-US" sz="2400" spc="-1" strike="noStrike">
                <a:solidFill>
                  <a:srgbClr val="000000"/>
                </a:solidFill>
                <a:latin typeface="Times New Roman"/>
              </a:rPr>
              <a:t>lower 15 bits of system serial number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Red with 8000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F1896E8-BC2A-45FD-8933-545B0ECBD0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Noah Davids</dc:creator>
  <dc:description/>
  <dc:language>en-US</dc:language>
  <cp:lastModifiedBy>Noah Davids</cp:lastModifiedBy>
  <cp:lastPrinted>1998-08-15T22:11:19Z</cp:lastPrinted>
  <dcterms:modified xsi:type="dcterms:W3CDTF">1999-10-20T19:58:48Z</dcterms:modified>
  <cp:revision>36</cp:revision>
  <dc:subject/>
  <dc:title>No Slide Title</dc:title>
</cp:coreProperties>
</file>