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4674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ece4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DA88-99D1-44E8-8395-1D9411E53A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DDC-5D42-4ED7-A12F-5C8B1E0D23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 support of SO_SNDBUF/SO_RCVBUF part of stcp-1592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C1D8-F613-48E8-88CF-6AD25B32CB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alert 20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118-893B-411C-8F2A-42367E9489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alert 2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9C82-FEED-486A-B6F0-93374E8C59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or SO_RCVBUF and SO_SNDBUF part of stcp-1592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E122-21C6-44A7-85FD-90E0FD8B4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96520" y="417420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85A4-0F94-4F8D-8DAE-1F8103629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9260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794F-E70E-411D-8B0B-9A4716D22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9940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0192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9652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9940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0192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F0F4-CC19-4B67-9DC2-19B817B3C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96880" y="307800"/>
            <a:ext cx="644544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A727-2F40-4312-84FD-0B3D65367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260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520" y="417420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260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940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01920" y="158544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9652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940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01920" y="4174200"/>
            <a:ext cx="257364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518C-9E63-4146-BDBC-C84EB301D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4BCD-F36E-4CB0-A6CA-025EDA7CD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D8AA-E8AE-44A6-853D-55B7D0612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96880" y="307800"/>
            <a:ext cx="644544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FC23-5F49-4DE9-BDB5-C4ABDB7DD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5C29-413E-49CE-AC7B-BBD7188E8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92600" y="417420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B637-86F4-422D-AB87-9EE21603C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92600" y="1585440"/>
            <a:ext cx="390060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520" y="4174200"/>
            <a:ext cx="7993080" cy="23637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BEF3-5CFC-4ED7-B1AA-BD173AB9B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0"/>
            <a:ext cx="8524800" cy="1353960"/>
            <a:chOff x="314280" y="0"/>
            <a:chExt cx="8524800" cy="1353960"/>
          </a:xfrm>
        </p:grpSpPr>
        <p:graphicFrame>
          <p:nvGraphicFramePr>
            <p:cNvPr id="1" name=""/>
            <p:cNvGraphicFramePr/>
            <p:nvPr/>
          </p:nvGraphicFramePr>
          <p:xfrm>
            <a:off x="314280" y="228600"/>
            <a:ext cx="8524800" cy="112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4280" y="228600"/>
                      <a:ext cx="8524800" cy="112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" name=""/>
            <p:cNvSpPr/>
            <p:nvPr/>
          </p:nvSpPr>
          <p:spPr>
            <a:xfrm>
              <a:off x="314280" y="0"/>
              <a:ext cx="8524800" cy="228600"/>
            </a:xfrm>
            <a:prstGeom prst="rect">
              <a:avLst/>
            </a:prstGeom>
            <a:solidFill>
              <a:srgbClr val="f7a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4674e"/>
                </a:solidFill>
                <a:latin typeface="Times New Roman"/>
              </a:endParaRPr>
            </a:p>
          </p:txBody>
        </p:sp>
        <p:graphicFrame>
          <p:nvGraphicFramePr>
            <p:cNvPr id="4" name=""/>
            <p:cNvGraphicFramePr/>
            <p:nvPr/>
          </p:nvGraphicFramePr>
          <p:xfrm>
            <a:off x="7667640" y="519120"/>
            <a:ext cx="1112760" cy="70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67640" y="519120"/>
                      <a:ext cx="111276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7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7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7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4" marL="2400480" indent="-335160">
              <a:spcBef>
                <a:spcPts val="700"/>
              </a:spcBef>
              <a:buClr>
                <a:srgbClr val="b09a72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5" marL="2400480" indent="-335160">
              <a:spcBef>
                <a:spcPts val="700"/>
              </a:spcBef>
              <a:buClr>
                <a:srgbClr val="74674e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6" marL="2400480" indent="-335160">
              <a:spcBef>
                <a:spcPts val="700"/>
              </a:spcBef>
              <a:buClr>
                <a:srgbClr val="74674e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596520" y="9000"/>
            <a:ext cx="28954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4674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4674e"/>
                </a:solidFill>
                <a:latin typeface="Tahoma"/>
              </a:rPr>
              <a:t>Stratus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314280" cy="6858000"/>
            <a:chOff x="0" y="0"/>
            <a:chExt cx="314280" cy="6858000"/>
          </a:xfrm>
        </p:grpSpPr>
        <p:grpSp>
          <p:nvGrpSpPr>
            <p:cNvPr id="10" name=""/>
            <p:cNvGrpSpPr/>
            <p:nvPr/>
          </p:nvGrpSpPr>
          <p:grpSpPr>
            <a:xfrm>
              <a:off x="0" y="0"/>
              <a:ext cx="314280" cy="6858000"/>
              <a:chOff x="0" y="0"/>
              <a:chExt cx="314280" cy="685800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0"/>
                <a:ext cx="314280" cy="6858000"/>
              </a:xfrm>
              <a:prstGeom prst="rect">
                <a:avLst/>
              </a:prstGeom>
              <a:solidFill>
                <a:srgbClr val="d5c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10960" y="0"/>
                <a:ext cx="103320" cy="6858000"/>
              </a:xfrm>
              <a:prstGeom prst="rect">
                <a:avLst/>
              </a:prstGeom>
              <a:gradFill rotWithShape="0">
                <a:gsLst>
                  <a:gs pos="0">
                    <a:srgbClr val="c8bba4"/>
                  </a:gs>
                  <a:gs pos="100000">
                    <a:srgbClr val="d5c8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0" y="228600"/>
              <a:ext cx="314280" cy="1128240"/>
              <a:chOff x="0" y="228600"/>
              <a:chExt cx="314280" cy="1128240"/>
            </a:xfrm>
          </p:grpSpPr>
          <p:sp>
            <p:nvSpPr>
              <p:cNvPr id="14" name=""/>
              <p:cNvSpPr/>
              <p:nvPr/>
            </p:nvSpPr>
            <p:spPr>
              <a:xfrm>
                <a:off x="0" y="228600"/>
                <a:ext cx="314280" cy="1128240"/>
              </a:xfrm>
              <a:prstGeom prst="rect">
                <a:avLst/>
              </a:prstGeom>
              <a:solidFill>
                <a:srgbClr val="c7b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7840" y="228600"/>
                <a:ext cx="136440" cy="1128240"/>
              </a:xfrm>
              <a:prstGeom prst="rect">
                <a:avLst/>
              </a:prstGeom>
              <a:gradFill rotWithShape="0">
                <a:gsLst>
                  <a:gs pos="0">
                    <a:srgbClr val="b5a891"/>
                  </a:gs>
                  <a:gs pos="100000">
                    <a:srgbClr val="c7bba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 flipV="1">
              <a:off x="314280" y="0"/>
              <a:ext cx="0" cy="6858000"/>
            </a:xfrm>
            <a:prstGeom prst="line">
              <a:avLst/>
            </a:prstGeom>
            <a:ln w="12600">
              <a:solidFill>
                <a:srgbClr val="9d8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4674e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8838720" y="0"/>
            <a:ext cx="304920" cy="6858000"/>
            <a:chOff x="8838720" y="0"/>
            <a:chExt cx="304920" cy="6858000"/>
          </a:xfrm>
        </p:grpSpPr>
        <p:grpSp>
          <p:nvGrpSpPr>
            <p:cNvPr id="18" name=""/>
            <p:cNvGrpSpPr/>
            <p:nvPr/>
          </p:nvGrpSpPr>
          <p:grpSpPr>
            <a:xfrm>
              <a:off x="8838720" y="0"/>
              <a:ext cx="304920" cy="6858000"/>
              <a:chOff x="8838720" y="0"/>
              <a:chExt cx="304920" cy="6858000"/>
            </a:xfrm>
          </p:grpSpPr>
          <p:sp>
            <p:nvSpPr>
              <p:cNvPr id="19" name=""/>
              <p:cNvSpPr/>
              <p:nvPr/>
            </p:nvSpPr>
            <p:spPr>
              <a:xfrm flipH="1">
                <a:off x="8838360" y="0"/>
                <a:ext cx="304920" cy="6858000"/>
              </a:xfrm>
              <a:prstGeom prst="rect">
                <a:avLst/>
              </a:prstGeom>
              <a:solidFill>
                <a:srgbClr val="d5c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8839080" y="0"/>
                <a:ext cx="100080" cy="6858000"/>
              </a:xfrm>
              <a:prstGeom prst="rect">
                <a:avLst/>
              </a:prstGeom>
              <a:gradFill rotWithShape="0">
                <a:gsLst>
                  <a:gs pos="0">
                    <a:srgbClr val="d5c8b1"/>
                  </a:gs>
                  <a:gs pos="100000">
                    <a:srgbClr val="c8bba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838720" y="228600"/>
              <a:ext cx="304920" cy="1125000"/>
              <a:chOff x="8838720" y="228600"/>
              <a:chExt cx="304920" cy="1125000"/>
            </a:xfrm>
          </p:grpSpPr>
          <p:sp>
            <p:nvSpPr>
              <p:cNvPr id="22" name=""/>
              <p:cNvSpPr/>
              <p:nvPr/>
            </p:nvSpPr>
            <p:spPr>
              <a:xfrm flipH="1">
                <a:off x="8838360" y="228600"/>
                <a:ext cx="304920" cy="1125000"/>
              </a:xfrm>
              <a:prstGeom prst="rect">
                <a:avLst/>
              </a:prstGeom>
              <a:solidFill>
                <a:srgbClr val="c7b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8839080" y="228600"/>
                <a:ext cx="131760" cy="1125000"/>
              </a:xfrm>
              <a:prstGeom prst="rect">
                <a:avLst/>
              </a:prstGeom>
              <a:gradFill rotWithShape="0">
                <a:gsLst>
                  <a:gs pos="0">
                    <a:srgbClr val="c7bba5"/>
                  </a:gs>
                  <a:gs pos="100000">
                    <a:srgbClr val="b5a8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 flipV="1">
              <a:off x="8839080" y="0"/>
              <a:ext cx="0" cy="6858000"/>
            </a:xfrm>
            <a:prstGeom prst="line">
              <a:avLst/>
            </a:prstGeom>
            <a:ln w="12600">
              <a:solidFill>
                <a:srgbClr val="9d8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4674e"/>
                </a:solidFill>
                <a:latin typeface="Times New Roman"/>
              </a:endParaRPr>
            </a:p>
          </p:txBody>
        </p:sp>
      </p:grp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219800" y="6533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6744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C7CE-5B84-4B9A-BF7F-C242A4E0DB3A}" type="slidenum">
              <a:rPr b="1" lang="en-US" sz="1200" spc="-1" strike="noStrike">
                <a:solidFill>
                  <a:srgbClr val="7a674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d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1040" y="2135160"/>
            <a:ext cx="8526600" cy="2651040"/>
          </a:xfrm>
          <a:prstGeom prst="rect">
            <a:avLst/>
          </a:prstGeom>
          <a:solidFill>
            <a:srgbClr val="3938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4674e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1906560"/>
            <a:ext cx="8526600" cy="228600"/>
          </a:xfrm>
          <a:prstGeom prst="rect">
            <a:avLst/>
          </a:prstGeom>
          <a:solidFill>
            <a:srgbClr val="f7ad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4674e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1040" y="4776840"/>
            <a:ext cx="8526600" cy="76320"/>
          </a:xfrm>
          <a:prstGeom prst="rect">
            <a:avLst/>
          </a:prstGeom>
          <a:solidFill>
            <a:srgbClr val="cfc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74674e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314280" cy="6858000"/>
            <a:chOff x="0" y="0"/>
            <a:chExt cx="314280" cy="6858000"/>
          </a:xfrm>
        </p:grpSpPr>
        <p:grpSp>
          <p:nvGrpSpPr>
            <p:cNvPr id="66" name=""/>
            <p:cNvGrpSpPr/>
            <p:nvPr/>
          </p:nvGrpSpPr>
          <p:grpSpPr>
            <a:xfrm>
              <a:off x="0" y="0"/>
              <a:ext cx="314280" cy="6858000"/>
              <a:chOff x="0" y="0"/>
              <a:chExt cx="314280" cy="68580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0"/>
                <a:ext cx="314280" cy="2273040"/>
                <a:chOff x="0" y="0"/>
                <a:chExt cx="314280" cy="22730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0"/>
                  <a:ext cx="314280" cy="2273040"/>
                </a:xfrm>
                <a:prstGeom prst="rect">
                  <a:avLst/>
                </a:prstGeom>
                <a:solidFill>
                  <a:srgbClr val="eae1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0960" y="0"/>
                  <a:ext cx="103320" cy="227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cdbd"/>
                    </a:gs>
                    <a:gs pos="100000">
                      <a:srgbClr val="eae1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0" y="1906560"/>
                <a:ext cx="314280" cy="4951440"/>
                <a:chOff x="0" y="1906560"/>
                <a:chExt cx="314280" cy="49514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0" y="1906560"/>
                  <a:ext cx="314280" cy="4951440"/>
                </a:xfrm>
                <a:prstGeom prst="rect">
                  <a:avLst/>
                </a:prstGeom>
                <a:solidFill>
                  <a:srgbClr val="d5c8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0960" y="1906560"/>
                  <a:ext cx="103320" cy="495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8bba4"/>
                    </a:gs>
                    <a:gs pos="100000">
                      <a:srgbClr val="d5c8b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0" y="2136600"/>
                <a:ext cx="314280" cy="2667960"/>
                <a:chOff x="0" y="2136600"/>
                <a:chExt cx="314280" cy="26679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0" y="2136600"/>
                  <a:ext cx="314280" cy="2667960"/>
                </a:xfrm>
                <a:prstGeom prst="rect">
                  <a:avLst/>
                </a:prstGeom>
                <a:solidFill>
                  <a:srgbClr val="c7bb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7840" y="2136600"/>
                  <a:ext cx="136440" cy="2667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5a891"/>
                    </a:gs>
                    <a:gs pos="100000">
                      <a:srgbClr val="c7bba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0" y="4776840"/>
                <a:ext cx="311040" cy="76320"/>
              </a:xfrm>
              <a:prstGeom prst="rect">
                <a:avLst/>
              </a:prstGeom>
              <a:solidFill>
                <a:srgbClr val="c2b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7960" y="4776840"/>
                <a:ext cx="73080" cy="76320"/>
              </a:xfrm>
              <a:prstGeom prst="rect">
                <a:avLst/>
              </a:prstGeom>
              <a:gradFill rotWithShape="0">
                <a:gsLst>
                  <a:gs pos="0">
                    <a:srgbClr val="aba28f"/>
                  </a:gs>
                  <a:gs pos="100000">
                    <a:srgbClr val="c2b6a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74674e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flipV="1">
              <a:off x="311040" y="0"/>
              <a:ext cx="0" cy="6858000"/>
            </a:xfrm>
            <a:prstGeom prst="line">
              <a:avLst/>
            </a:prstGeom>
            <a:ln w="12600">
              <a:solidFill>
                <a:srgbClr val="9d8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4674e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837640" y="0"/>
            <a:ext cx="306360" cy="6858000"/>
            <a:chOff x="8837640" y="0"/>
            <a:chExt cx="306360" cy="6858000"/>
          </a:xfrm>
        </p:grpSpPr>
        <p:grpSp>
          <p:nvGrpSpPr>
            <p:cNvPr id="80" name=""/>
            <p:cNvGrpSpPr/>
            <p:nvPr/>
          </p:nvGrpSpPr>
          <p:grpSpPr>
            <a:xfrm>
              <a:off x="8837640" y="0"/>
              <a:ext cx="306360" cy="6858000"/>
              <a:chOff x="8837640" y="0"/>
              <a:chExt cx="306360" cy="68580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8838720" y="0"/>
                <a:ext cx="304920" cy="2290320"/>
                <a:chOff x="8838720" y="0"/>
                <a:chExt cx="304920" cy="2290320"/>
              </a:xfrm>
            </p:grpSpPr>
            <p:sp>
              <p:nvSpPr>
                <p:cNvPr id="82" name=""/>
                <p:cNvSpPr/>
                <p:nvPr/>
              </p:nvSpPr>
              <p:spPr>
                <a:xfrm flipH="1">
                  <a:off x="8838360" y="0"/>
                  <a:ext cx="304920" cy="2290320"/>
                </a:xfrm>
                <a:prstGeom prst="rect">
                  <a:avLst/>
                </a:prstGeom>
                <a:solidFill>
                  <a:srgbClr val="eae1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8839080" y="0"/>
                  <a:ext cx="100080" cy="2290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ae1d4"/>
                    </a:gs>
                    <a:gs pos="100000">
                      <a:srgbClr val="d9ceb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8838720" y="1906560"/>
                <a:ext cx="304920" cy="4951440"/>
                <a:chOff x="8838720" y="1906560"/>
                <a:chExt cx="304920" cy="4951440"/>
              </a:xfrm>
            </p:grpSpPr>
            <p:sp>
              <p:nvSpPr>
                <p:cNvPr id="85" name=""/>
                <p:cNvSpPr/>
                <p:nvPr/>
              </p:nvSpPr>
              <p:spPr>
                <a:xfrm flipH="1">
                  <a:off x="8838360" y="1906560"/>
                  <a:ext cx="304920" cy="4951440"/>
                </a:xfrm>
                <a:prstGeom prst="rect">
                  <a:avLst/>
                </a:prstGeom>
                <a:solidFill>
                  <a:srgbClr val="d5c8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8839080" y="1906560"/>
                  <a:ext cx="100080" cy="495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5c8b1"/>
                    </a:gs>
                    <a:gs pos="100000">
                      <a:srgbClr val="c8bba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8838720" y="2135160"/>
                <a:ext cx="304920" cy="2647080"/>
                <a:chOff x="8838720" y="2135160"/>
                <a:chExt cx="304920" cy="264708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8838360" y="2135160"/>
                  <a:ext cx="304920" cy="2647080"/>
                </a:xfrm>
                <a:prstGeom prst="rect">
                  <a:avLst/>
                </a:prstGeom>
                <a:solidFill>
                  <a:srgbClr val="c7bb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8839080" y="2135160"/>
                  <a:ext cx="131760" cy="264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7bba5"/>
                    </a:gs>
                    <a:gs pos="100000">
                      <a:srgbClr val="b5a89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8837640" y="4776840"/>
                <a:ext cx="306360" cy="76320"/>
                <a:chOff x="8837640" y="4776840"/>
                <a:chExt cx="306360" cy="763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8837640" y="4776840"/>
                  <a:ext cx="306360" cy="76320"/>
                </a:xfrm>
                <a:prstGeom prst="rect">
                  <a:avLst/>
                </a:prstGeom>
                <a:solidFill>
                  <a:srgbClr val="c2b6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837640" y="4776840"/>
                  <a:ext cx="82440" cy="7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2b6a0"/>
                    </a:gs>
                    <a:gs pos="100000">
                      <a:srgbClr val="aba2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74674e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" name=""/>
            <p:cNvSpPr/>
            <p:nvPr/>
          </p:nvSpPr>
          <p:spPr>
            <a:xfrm flipV="1">
              <a:off x="8837640" y="0"/>
              <a:ext cx="0" cy="6858000"/>
            </a:xfrm>
            <a:prstGeom prst="line">
              <a:avLst/>
            </a:prstGeom>
            <a:ln w="12600">
              <a:solidFill>
                <a:srgbClr val="9d8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4674e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8600" y="2507760"/>
            <a:ext cx="7908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ece4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0ece4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89240" y="770040"/>
            <a:ext cx="178416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96040" y="515880"/>
            <a:ext cx="1494000" cy="87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697040" y="4160880"/>
            <a:ext cx="6093000" cy="2444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c8b1"/>
                </a:solidFill>
                <a:latin typeface="Tahoma"/>
              </a:rPr>
              <a:t>Click to edit the outline text format</a:t>
            </a: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857160" indent="282600" algn="ctr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200240" indent="403200" algn="ctr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4" marL="1542960" indent="522360" algn="ctr">
              <a:spcBef>
                <a:spcPts val="601"/>
              </a:spcBef>
              <a:buClr>
                <a:srgbClr val="b09a72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5" marL="1542960" indent="522360">
              <a:spcBef>
                <a:spcPts val="601"/>
              </a:spcBef>
              <a:buClr>
                <a:srgbClr val="74674e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6" marL="1542960" indent="522360">
              <a:spcBef>
                <a:spcPts val="601"/>
              </a:spcBef>
              <a:buClr>
                <a:srgbClr val="74674e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noah.davids@stratus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d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88600" y="2507760"/>
            <a:ext cx="7908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ece4"/>
                </a:solidFill>
                <a:latin typeface="Tahoma"/>
              </a:rPr>
              <a:t>Porting TCP_OS applications to STCP</a:t>
            </a:r>
            <a:endParaRPr b="1" lang="en-US" sz="30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88960" y="3144960"/>
            <a:ext cx="79135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c8b1"/>
                </a:solidFill>
                <a:latin typeface="Tahoma"/>
              </a:rPr>
              <a:t>Noah Davids</a:t>
            </a: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c8b1"/>
                </a:solidFill>
                <a:latin typeface="Tahoma"/>
              </a:rPr>
              <a:t>Customer Assistance Center</a:t>
            </a:r>
            <a:endParaRPr b="1" lang="en-US" sz="2100" spc="-1" strike="noStrike">
              <a:solidFill>
                <a:srgbClr val="d5c8b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transfer/receive_socket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Not the same calling sequence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nt receive_socket (char *pathname);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nt transfer_socket(int sd, char *pathname);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athname is a pointer to a buffer large enough to hold the pathname of the socket device (67 bytes)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9704-3012-42E1-903F-049D01B6A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transfer/receive_socket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 pathname is transferred to the receiving process via some out of band mechanism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Message queu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CP/UDP messag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Once receiving process has socket it must notify the transferring process so it can close its copy of the 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Failure of the transferring process to close its copy of socket will prevent the socket from being closed when receiving process closes i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ee stcp_transferring_echo and stcp_receiving_echo example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8D91-8F41-4AA8-BC26-0F1DA554A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Leftover and newly discovered issues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6520" y="1494000"/>
            <a:ext cx="7993080" cy="5047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ftover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ocket Option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azy accept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Accepted connection timing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oad balancing connection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imitation on number of socket descriptors usable in selec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ingering” issue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tack size when using select or poll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UDP message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CP_OS versus POSIX compatibility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ems in blue are not on your handouts or in the official copy of the presentation</a:t>
            </a: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1374-3FFD-4689-B26E-7C943C6FA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Socket Options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upported by TCP_OS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not supported by STCP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O_BROADCAST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O_DEBUG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SO_DONTROUTE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O_KEEPALIV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O_LINGER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SO_OOBINLIN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SO_RCVBUF</a:t>
            </a: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O_REUSEADDR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SO_SNDBUF</a:t>
            </a: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CP_NODELAY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n release 14.7 and 15.0 SO_RCVBUF and SO_SNDBUF will be supported for UDP sockets only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2D1B-5C2C-4221-BD77-59CF5B17F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azy Accept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CP_O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ceive SYN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f backlog not exceeded send SYN_ACK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tify application of connection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lient sees an established connection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8516-CBD7-4063-BAFA-AA814D430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azy Accept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CP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Receive SYN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If application has called accept then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nd SYN-ACK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Return to the application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If application has not called accept then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Put the connection request in the backlog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Do not send SYN-ACK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ify application that listening socket has read even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lient can timeout if application does not call accep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Once backlog is full STCP will send an RS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tcp-1257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t yet fixed in any releas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C35A-30A9-4855-8BC3-214AEAB0E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Accepted connection timing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CP_OS will not return from an accept until the ACK from TCP_OS’s SYN-ACK is receiv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 returns as soon as the SYN-ACK is sent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f you try to use the socket before the SYN-ACK ACK is received you get an ENOTCONN erro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-1563 (fixed 14.7, 15.0)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By not returning until SYN_ACK ACK is received </a:t>
            </a:r>
            <a:r>
              <a:rPr b="1" lang="en-US" sz="2400" spc="-1" strike="noStrike">
                <a:solidFill>
                  <a:srgbClr val="fa0e41"/>
                </a:solidFill>
                <a:latin typeface="Tahoma"/>
              </a:rPr>
              <a:t>in blocking mode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 onl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n-blocking sockets still return before SYN-ACK ACK is received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464C-C7F1-40B9-B994-7B2D00C60A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Accepted connection timing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olution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Handle the error inline with whatever you are do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ut in special code to test the socket and handle the erro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f not connected wait or do something els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e stcp_echo_2 in the exampl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39DD-8B21-4432-8808-491A9C783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oad balancing connection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CP_OS allows multiple sockets (processes/tasks) to listen on same port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ystem will send connection request to socket with fewest active connection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Easy way to load balance among several processes/task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25EA-C218-4E94-A559-0FC03915C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oad balancing connection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 allows multiple sockets (processes/tasks) to listen on same port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ystem will send connection request to first socket bound to that port. The other sockets will never get a connection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DF10-11AC-4B30-8F8B-1165C9B04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Outline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Original issues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Changes made to improve the process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Leftover and newly discovered issues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Compiling and binding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To POSIX or not to POSIX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6744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9259-8F3E-45EA-8A04-044E7A592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oad balancing connections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 workaroun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fter accepting a connection close the listening socket then create a new socket and rebind, this puts it at the end of the queu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Other pending connections will be dropped at this point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e stcp_tasking_echo and stcp_receiving_echo example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0DB8-FF70-4320-A561-DC80954FA8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Limitation on number of socket descriptors usable in select (1)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Not really new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Effects both TCP_OS and STCP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Because of the way STCP works and the increased number of sockets supported, STCP applications are more at risk then TCP_OS application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Using a valid socket descriptor with an index larger then the fd array size can corrupt the stack.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6C66-81BB-40E2-8BA1-2D3C7B1383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Limitation on number of socket descriptors usable in select (2)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Array size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CP_OS (all VOS releases) 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256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 (VOS releases 14.2 and earlier using the STCP libraries) 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1024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 (VOS releases 14.3 and later using the C libraries) 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1024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 (VOS releases 14.3 and later using the POSIX libraries) 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4096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Note that with STCP it is possible to get a socket descriptor value greater than 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1024 even if only have 1 socket has been opened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B70D-B573-49A8-85E2-FD574AEF1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Limitation on number of socket descriptors usable in select (3)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olution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9b12f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Bind with POSIX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74674e"/>
              </a:buClr>
              <a:buSzPct val="8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Use poll instead of selec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f the application will never, ever, under any circumstances use more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han 1024 sockets plus files, you are safe in ignoring this problem.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However, I would add a check on each socket created or accepted just to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be sure. Note that objects bound on 14.6 or later will automagically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nclude this check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46B7-5A4E-4770-9373-254F4FBCA6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ingering” issue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urrently STCP supports the SO_LINGER option in that it doesn’t report an error if you set it.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But it doesn’t work (stcp-1789)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Actual semantics of lingering are a little vague and there are conflicting implementations from various vendors.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6633-0049-4ED3-9391-CC050C4CDC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ingering” issue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w behavior as of 14.7 and 15.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socke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Linger will have no effec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lose returns immediately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FIN sent if possibl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ocket cleaned up immediately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ny data not already sent to remote peer is discarde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onnection remains in TIME_WAIT state for 2*MSL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n change time with comman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t_stcp_param tcp_msl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406A-584C-4BF2-B041-FFFFDFBA4A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ingering” issues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Blocking 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Linger not se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lose may hang for up to 15 seconds or until all pending data moved to the STCP buffer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o change time us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ioctl(s, I_SETCLTIME, &amp;arg)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FIN sent to remote peer if possibl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ny data not sent to remote peer at the end of 15 seconds is discarde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 error is returned to caller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onnection remains in TIME_WAIT state for 2*MSL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an change time with comman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t_stcp_param tcp_msl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ECC8-B74B-4E5C-823D-D123B9CFB7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ingering” issues (4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inger value = 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lose returns immediatel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ST sent to remote pe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ny data not already sent to remote peer is discard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error is returned to call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onnection skips TIME_WAIT stat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3786-B89E-42B9-A33D-C03147D466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lingering” issues (5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inger value &gt; 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lose is delayed for linger time or until all pending data is sent (including FIN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N sent to remote peer if possibl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ny data not sent after linger time is discard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Error EWOULDBLOCK returned to call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onnection remains in TIME_WAIT state for 2*MS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6B78-E4AA-4B99-9157-DE14931AEE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Task stack size when using select or poll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hanges made to select, poll, s$poll, s$c_select_with_events in VOS 14.3 require that tasking applications be bound with a large task stack siz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ask stack size should be 104K plus the amount you expect to us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ll tasking applications using STCP or TCP_OS are effected as well – even if they don’t use the above call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Because the runtimes use select even if the application doesn’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his has been fixed in VOS 14.6.1ac, 14.7, 15.0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078F-D4AB-4423-87F9-89E0F924B6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Original Issues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non-blocking connec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azy accep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ccepted connection timing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get_socket_even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transfer/receive_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Missing socket options (SO_SNDBUF/SO_RCVBUF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oad Balancing” connection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B9A2-75E7-4855-9D57-9EB40F11B5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UDP message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everal issues have come to ligh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-1249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If a large message is sent and a recvfrom is done to read it, if the buffer provided to recvfrom is not large enough to hold the entire message the next recvfrom returned ENOTCONN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his was fixed in 14.5 to make STCP act like TCP_OS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CP_OS behaves incorrectly (according to POSIX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It will return the rest of the message in the next recvfrom call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fixing this bug made STCP act like TCP_OS but there were problems when using recvfrom with TCP sockets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-1823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Back out stcp-1249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fixed in 14.7 and 15.0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 will now discard rest of messag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When used with TCP socket recfrom will no longer fill in recvfrom address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his will break any TCP_OS code that relies on this behavior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his brings STCP it inline with POSIX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F5D6-CE3D-4893-BB9A-CAD8762C38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UDP message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-1869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Using send (instead of sendto) to send large datagrams causes the datagrams to be broken up into 9216 byte chunk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Use sendto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xed in 14.7 and 15.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09C1-C55F-4741-AC1A-B052B92566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UDP messages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mos-394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Using write (instead of sendto) to send large datagrams causes the datagrams to be broken up into 4096 byte chunk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Use sendto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xed in 14.7 and 15.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4765-6899-4DF7-A233-0CA45B3847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TCP_OS versus POSIX compatibility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ratus has made every attempt to make porting from TCP_OS to STCP eas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HOWEV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e have not attempted to make STCP identical to TCP_O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Our goal is to make STCP compatible with POSIX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We are not guaranteeing to implement the entire POSIX specification but what  we do implement will be compatible with POSIX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Requests for missing POSIX features will be seriously considere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5372-CAB0-43D1-9010-0B05148926C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To POSIX or not to POSIX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Advantages of using POSIX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andards based API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is is the standard that we will be supporting into the futur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FFE7-2461-4689-A5BC-CA0358D14B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ompiling and binding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ibrary path order is critical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STCP include libraries must come first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If using just include file name (socket.h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&gt;include_library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arpa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bsd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net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netinet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protocols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prototypes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&gt;sys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Courier New"/>
              </a:rPr>
              <a:t>%phx_cac_j14#m14_mas&gt;system.&gt;stcp&gt;include_library&gt;compat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Courier New"/>
              </a:rPr>
              <a:t>Not included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If using  “pseudo” path (sys/socket.h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%phx_cac_j14#m14_mas&gt;system.&gt;stcp&gt;include_library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&gt;system&gt;include_library next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POSIX uses system include_library,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To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ctivate POSIX</a:t>
            </a: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 insert before first #includ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Tahoma"/>
              </a:rPr>
              <a:t>#define _POSIX_SOURC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36A1-A3AB-4539-9C26-42BE5644A4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ompiling and binding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Must include all of the STCP object librarie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stcp&gt;object_library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stcp&gt;object_library&gt;common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stcp&gt;object_library&gt;ne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stcp&gt;object_library&gt;sbsd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stcp&gt;object_library&gt;socke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hen POSIX object library (if using POSIX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posix_object_library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hen C object library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c_object_library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hen system object library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%phx_cac_j14#m14_mas&gt;system&gt;object_library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7782-5C4D-4C6F-AF0C-AF9B9255E3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ompiling and binding (3)</a:t>
            </a:r>
            <a:br>
              <a:rPr sz="3200"/>
            </a:br>
            <a:r>
              <a:rPr b="1" lang="en-US" sz="2000" spc="-1" strike="noStrike">
                <a:solidFill>
                  <a:srgbClr val="f0ece4"/>
                </a:solidFill>
                <a:latin typeface="Tahoma"/>
              </a:rPr>
              <a:t>Compatability Library</a:t>
            </a:r>
            <a:endParaRPr b="1" lang="en-US" sz="20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&gt;system&gt;stcp&gt;object_library&gt;complib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 don’t recommend that anyone use thi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 idea was to maintain calling sequence compatibility and error code returns with TCP_O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ill not solve design issu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azy accepts, connection timing, multiple por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ECF2-9283-49BF-8AB6-05A98F3FC0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ompiling and binding (4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et_stcp.cm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ommand macro to set your include, object and command libraries so you can bind and compile STCP application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rst deletes any paths to TCP_OS, STCP, POSIX, or C librari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o make sure they get added back in proper ord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n adds them back in proper order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ill be available on-lin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6A59-C9F0-4004-B5C3-8C2DBFBCB6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ompiling and binding (5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set_stcp.cm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ttach_default_output foo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list_library_paths includ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detach_default_outpu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 assumes first 3 lines are blank, include library directories:, and (current_di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r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3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gain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&amp;line&amp; + 1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hold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length &amp;path&amp;) = 0 &amp;then &amp;goto add_includ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stcp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include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tcp_os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include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system&gt;include_library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include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goto again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dd_includ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include (master_disk)&gt;system&gt;include_library -after '(current_d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include (master_disk)&gt;system&gt;stcp&gt;include_library -after '(curr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close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ttach_default_output foo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list_library_paths objec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detach_default_outpu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F227-6F45-4E2C-AEBD-AF7CC7B4DE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hanges made to improve the process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As of 14.7.0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upport 16,000 socke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te that a process is still limited to 4096 open files (sockets plus everything else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upport for non-blocking connec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upport for get_socket_even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upport for transfer_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680C-7A78-49BF-8B86-D5CF17515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ompiling and binding (6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set_stcp.cm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 assumes first 3 lines are blank, object library directories:, and (current_dir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3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gain_2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&amp;line&amp; + 1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hold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length &amp;path&amp;) = 0 &amp;then &amp;goto add_objec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posix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object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stcp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object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c_object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object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tcp_os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object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system&gt;object_library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object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goto again_2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dd_objec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object_library -after '(current_dir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c_object_library -after '(current_d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posix_object_library -after '(curr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stcp&gt;object_library&gt;common -after 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(curr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stcp&gt;object_library&gt;net -after '(cu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rr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3ADE-60CD-4EA9-8FE1-4989BA067C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ompiling and binding (7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set_stcp.cm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stcp&gt;object_library&gt;sbsd -after '(c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urr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stcp&gt;object_library&gt;socket -after 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(curr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object (master_disk)&gt;system&gt;stcp&gt;object_library -after '(curren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close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ttach_default_output foo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list_library_paths command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detach_default_output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 assumes first 3 lines are blank, command library directories:, and (current_di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r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3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gain_3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 line &amp;line&amp; + 1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hold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length &amp;path&amp;) = 0 &amp;then &amp;goto add_command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stcp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command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if (index &amp;path&amp; tcp_os) &gt; 0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then delete_library_path command &amp;path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goto again_3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label add_command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add_library_path command (master_disk)&gt;system&gt;stcp&gt;command_library -after '(curr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+ent_dir)'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&amp;set_string path (contents foo &amp;line&amp; -close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89FB-5BBB-45F6-85ED-8947389D8B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ompiling and binding (8)</a:t>
            </a:r>
            <a:br>
              <a:rPr sz="2800"/>
            </a:b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arning 1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When you use POSIX you have to use the cc compiler.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Using the c compiler will not be pretty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c: stcp_inetd_echo.c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ERROR 1823 SEVERITY 2 BEGINNING ON LINE 1-29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(%phx_cac_j14#m14_mas&gt;system.14.6.tel&gt;include_library&gt;sys&gt;types.incl.c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Constant found where an operator was expected.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ERROR 1823 SEVERITY 2 BEGINNING ON LINE 2-247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(%phx_cac_j14#m14_mas&gt;system.14.6.tel&gt;include_library&gt;types.incl.c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Constant found where an operator was expected.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. . . 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A339-84A7-41B2-AAF5-8E4827F54F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Compiling and binding (9)</a:t>
            </a:r>
            <a:br>
              <a:rPr sz="2400"/>
            </a:b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arning 2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Don’t bind with the POSIX object library without including #define _POSIX_SOURC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cp_tasking_echo 20000 120 1 1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asking_echo 20000 120 1 1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he default error handler has been invoked.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Attempt to reference a page that is not in your virtual space.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Referencing address 00000000x.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rror occurred in procedure Operating System, address C0425868x.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ommand was stcp_tasking_echo.pm.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Request?  (stop, continue, debug, keep, login, re-enter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nd your stack is trashed for your added frustration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D718-ECB7-4C54-8365-6CF23856CE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Take a deep breath and relax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77760" y="1352520"/>
            <a:ext cx="731232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F57A-AD40-47F8-92B4-D4D593E96B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igration Example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multi-connection TCP server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multi-tasking TCP server (1 connection per task)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single connection TCP server started by inet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TCP clien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UDP server (sends broadcasts)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UDP clien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multi-connection TCP server with greeting messag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on-blocking multi-connection TCP server using transfer_socke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225B-28C8-4440-A019-38C746DF15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igration Example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mmediately echoes back whatever characters are sent to i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onfigurable delay to send back last half of character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n last 1/4, last 1/8, etc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ny new characters are appended to what is still in buffer and immediately echoed back, then last 1/2, last 1/4, etc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74F5-1629-4FA6-8E0D-0F9947E276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igration Examples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lient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ill send anything that it reads from keyboar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ill display anything that it receives from 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an connect to any of the server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0AE8-5902-4261-A74A-72A1DC2C18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igration Examples (4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Courier New"/>
              </a:rPr>
              <a:t>tcpos_echo_client 10000 athena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cpos_echo_client 10000 athena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onnection to server athena completed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Courier New"/>
              </a:rPr>
              <a:t>this is a tes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his is a tes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a tes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s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Courier New"/>
              </a:rPr>
              <a:t>this is a longer test, with lots of extra characters abcdefghijkl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this is a longer test, with lots of extra characters abcdefghijkl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tra characters abcdefghijkl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abcdefghijkl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jkl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n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o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5640-5281-4615-BBFA-9192A157814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igration Examples (5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programs can be found at UTBDSITF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933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(URL to be determined sometime in the future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468000" indent="-46800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Or send E-mail to </a:t>
            </a:r>
            <a:r>
              <a:rPr b="0" lang="en-US" sz="2800" spc="-1" strike="noStrike" u="sng">
                <a:solidFill>
                  <a:srgbClr val="2e8c2e"/>
                </a:solidFill>
                <a:uFillTx/>
                <a:latin typeface="Tahoma"/>
                <a:hlinkClick r:id="rId1"/>
              </a:rPr>
              <a:t>noah.davids@stratus.com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46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46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e41"/>
                </a:solidFill>
                <a:latin typeface="Tahoma"/>
              </a:rPr>
              <a:t>WARNING </a:t>
            </a:r>
            <a:endParaRPr b="0" lang="en-US" sz="3200" spc="-1" strike="noStrike">
              <a:solidFill>
                <a:srgbClr val="7a6744"/>
              </a:solidFill>
              <a:latin typeface="Tahoma"/>
            </a:endParaRPr>
          </a:p>
          <a:p>
            <a:pPr marL="46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I have done everything I can to make sure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46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hat these programs are bug free BUT they are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46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programs which means that they have bugs.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46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8798-72DB-4080-BC29-730F0B2CFD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connects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-1512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xed in release 14.3.1al, 14.4.0.ab, 14.5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External variable tcp_synsent_abort_interval$ controls time spent in kernel waiting for connection to complet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ducing time reduces number of retransmissions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otential to fail connections that could complet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EAC8-396A-42D3-8CBB-A3E5024FB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echo.c/stcp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ed #define _POSIX_SOURC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ist of include fil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How non-blocking is set up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all to make socket non-blocking changed from net_ioctl to fcnt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n-blocking” flag changed from 0 to O_NDELA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move references to send and receive buffer sizes and SO_RCVBUF/SNDBUF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t supported for stream socke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EDC0-1F63-4F2A-A12A-670CDA2267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(2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echo.c/stcp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More change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hange keepalive on/off argument to a timer argument and add code to adjust keepalive timer for the 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just argument process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recvbuf/sendbuf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Keepalive now a valu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hange the call to close the socket from net_close to clos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55C3-E9F6-4EF2-B1E6-7BBA9BB73D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include files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define _POSIX_SOURCE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sys/select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prototypes/inet_proto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fcntl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string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#include &lt;c_utilities.h&gt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51A3-4F37-4A87-A457-CC69717D62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setting up non-blocking socket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nt fcntl_flags;                  /* holds flags for fcntl function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used to set non-blocking mode */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fcntl_flags = fcntl(socks [0], F_GETFL, 0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fcntl_flags &lt; 0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perror ("echo: could not get the current fcntl flags for listening socket"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fcntl_flags = fcntl_flags | O_NDELAY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fcntl(socks [0], F_SETFL, fcntl_flags) &lt; 0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perror ("echo: could not set non blocking IO for listening socket"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B0EF-3A9D-4493-9DF9-99E02D22EF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STCP allows a 0 value for linger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/* set the linger timer if its greater than -1. */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lingertime &gt; -1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linger1.l_onoff = 1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linger1.l_linger = lingertime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setsockopt (socks [0], SOL_SOCKET, SO_LINGER, (char *) &amp;linger1, sizeof (linger1)) &lt; 0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perror ("echo: Error setting linger"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3A1A-FBBD-4BB3-8A91-63F136CAAB8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setting keepalive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truct linger  linger1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ka_timer != 0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linger1.l_onoff = 1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linger1.l_linger = ka_timer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setsockopt (socks [0], SOL_SOCKET, SO_KEEPALIVE, (char *) &amp;linger1, sizeof (linger1)) &lt; 0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perror ("echo: Error setting keepalive"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ote that the TCP_OS code which just sets a flag to 1 or 0 will continue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o work just fine. It will just use the system default keepalive time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BD9D-FEE0-4AE5-AEAB-5367113E39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closing a socket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close (socks [j]) &lt; 0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printf (msg, "echo: error closing socket 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connected to %s", &amp;peer [j][0]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perror (msg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7079-FE66-4461-BDCD-18424A087E4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asking TCP server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tasking_echo.c/stcp_tasking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Driver program - 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ed #define _POSIX_SOURC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ist of include files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move receive and send buffer size argumen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hange keepalive on/off argument to a timer argumen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just argument process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 recvbuf/sendbuf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Keepalive now a valu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F3FD-C475-4DEF-A8D6-92213B6A42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asking TCP server(2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echo_task.c/stcp_echo_task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Tasking module - 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ame changes as stcp_echo.c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lose the listening socket after each accep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create the listening socket after each clos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is allows the tasks to round robin accepting connection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A044-AA88-4525-9AA3-805474CE65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inetd TCP server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inetd_echo.c/stcp_inetd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ame changes as stcp_echo.c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move transfer_socket argument and argument process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t value of socket variable to 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6DB5-CB4A-4947-8363-6CE73DA9FE1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connects (2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tcp-1178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Fixed in 14.6.0aq, 14.7, and 15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Really allow non-blocking connect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External variable stcp$allow_nonblocking_connects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et to 1 (default) to allow nonblocking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et to 0 to get the old behavior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Connect returns -1 and errno is EINPROGRES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ahoma"/>
              </a:rPr>
              <a:t>TCP_OS connect will set errno to e$caller_must_wait</a:t>
            </a: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eed to rebind any existing applications 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Prior to this even if socket was in non-blocking mode the connect would block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After this even if a socket is in blocking mode you can still break out of connec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o longer stuck in kernel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6AAF-EF56-426C-AB5F-3EB823E5A2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client 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echo_client.c/stcp_echo_client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ame changes as stcp_echo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tdb.h, errno.h and error_codes.h need to be includ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CP hostname resolution does not need to check for IP address as well as a nam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te that STCP inet_addr returns -1 on error instead of INADDR_NON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NADDR_NONE really is -1 but the documentation doesn’t say tha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E478-62E6-42F7-98CB-39495D75490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TCP client (2)</a:t>
            </a:r>
            <a:br>
              <a:rPr sz="3200"/>
            </a:br>
            <a:r>
              <a:rPr b="1" lang="en-US" sz="2000" spc="-1" strike="noStrike">
                <a:solidFill>
                  <a:srgbClr val="f0ece4"/>
                </a:solidFill>
                <a:latin typeface="Tahoma"/>
              </a:rPr>
              <a:t>tcpos_echo_client.c/stcp_echo_client.c</a:t>
            </a:r>
            <a:endParaRPr b="1" lang="en-US" sz="20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More change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onnect in non-blocking mode returns EINPROGRESS (e$streams_EINPROGRESS) instead of e$caller_must_wait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cv can get EAGAIN (e$usf_EAGAIN) instead of e$caller_must_wai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ed to double check that connection has been establish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C2C9-F121-49C5-AC94-2D4E75FE4B2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host name resolution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truct hostent *hostinfo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hostinfo = gethostbyname (argv [2]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hostinfo == NULL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printf ("\nCould not find address for host &lt;%s&gt;.\n", argv [2]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xit (-1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erv_addr.sin_addr.s_addr = *(unsigned long *)(hostinfo -&gt; h_addr_list [0]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ndhostent (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9EF4-A4F8-45CD-B9AB-E87F09463D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double checking connection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hort socketConnected = 0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hort int notConnectedCount = 0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$wait_event (&amp;num_events, events, event_counts, &amp;timeout, &amp;current_event, &amp;return_code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return_code != 0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printf ("echo_client: s$wait_event returned %d\n", return_code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xit (return_code)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if (current_event == 1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terminalReady = 1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7a6744"/>
                </a:solidFill>
                <a:latin typeface="Courier New"/>
              </a:rPr>
              <a:t>socketReady = 1;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3131-1EB0-496A-9CF8-A8ECB74540E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neric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double checking connection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if (!socketConnected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peer_len = sizeof (peer_addr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if (getpeername (socks0, (struct sockaddr *) &amp;peer_addr, &amp;peer_len) == 0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socketConnected = 1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printf ("Connection to server %s completed\n", argv [2]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socketReady = 0; /* we just got connected, should be nothing */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                /* to read */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if (errno != ENOTCONN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perror ("Error from getpeername"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notConnectedCount++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if (notConnectedCount == 2)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printf ("Connection to server %s failed\n", argv [2]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socketReady = 0;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 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3152-F304-48F0-A20E-7E3C8491D01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server 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roadcast_echo.c/stcp_broadcast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ed #define _POSIX_SOURC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List of include fil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How non-blocking is set up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all to make socket non-blocking changed from net_ioctl to fcnt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n-blocking” flag changed from 0 to O_NDELA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ocket options SO_RCVBUF and SO_SNDBUF not yet support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arting 14.7/15.0 will be supported for UDP onl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CCD4-8BF2-4A22-AE57-4E638B40F36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server (2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roadcast_echo.c/stcp_broadcast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More changes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ot really a change but it is not necessary to set SO_BROADCAST to send broadcasts, it doesn’t hurt but is not needed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cvfrom can get EAGAIN (e$usf_EAGAIN) instead of e$caller_must_wai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t is also possible for recv to return -1 with errno = 0 ignore this as well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BFB9-D67D-4252-B96A-52BA899BD3F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server (3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roadcast_echo.c/stcp_multicast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953640" indent="-36900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ame changes as stcp_broadcast_echo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953640" indent="-36900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384560" indent="-32472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Remove call to set SO_BROADCAS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384560" indent="-32472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d support for multicas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814400" indent="-32328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rguments for address of local interface to use and the multicast addres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814400" indent="-32328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Need to sanity address argument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814400" indent="-32328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t default multicast interfac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814400" indent="-32328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t the TTL for multicast messag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814400" indent="-32328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reate a multicast sock_addr structure for sendto to us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F888-7D36-4125-962D-D740C1F1266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ulticast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Setting default interface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4000"/>
          </a:bodyPr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uct in_addr ifaddr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har  localIP [16]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cpy (localIP, argv [2]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addr.s_addr = inet_addr(local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 (ifaddr.s_addr == -1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rintf ("multicast_echo: local address argument %s is not 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an IP address\n", local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it (-1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 (setsockopt(socks0, IPPROTO_IP, IP_MULTICAST_IF,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(char *)&amp;ifaddr, sizeof (struct in_addr)) &lt; 0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error ("multicast_echo: Could not set local 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nterface"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3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7319-1A0D-4614-9859-C0D513BB461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ulticast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Setting TTL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nt    ttl = 2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setsockopt(socks0, IPPROTO_IP, IP_MULTICAST_TTL,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(char *)&amp;ttl, sizeof(ttl)) &lt; 0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perror ("multicast_echo: setting multicast TTL to 2"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D590-09DB-4B37-8F85-E84277CF11C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connects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stcp-1047 (a </a:t>
            </a: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light</a:t>
            </a: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 but </a:t>
            </a:r>
            <a:r>
              <a:rPr b="1" lang="en-US" sz="2800" spc="-1" strike="noStrike">
                <a:solidFill>
                  <a:srgbClr val="7a6744"/>
                </a:solidFill>
                <a:latin typeface="Tahoma"/>
              </a:rPr>
              <a:t>important</a:t>
            </a: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 digression)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 tasking program that does a connect will block in the kernel and cause a process NOT A TASK switch – no other tasks will run until the connect completes or times ou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xed in 14.6.0aq, 14.7, 15.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e stcp_echo_client example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C2A9-A353-4E88-938A-B65C3A6D17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Multicast changes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 Creating </a:t>
            </a: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ulticast sock_addr 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5000"/>
          </a:bodyPr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uct sockaddr_in multicast_addr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nt    multicastlen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har  multicastIP [16]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cpy (multicastIP, argv [3]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bzero ( (char *) &amp;multicast_addr, sizeof (multicast_addr)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ulticast_addr.sin_family        = AF_INET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ulticast_addr.sin_addr.s_addr   = inet_addr (multicast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 (multicast_addr.sin_addr.s_addr == -1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rintf ("multicast_echo: multicast address argument %s is not an IP address\n", multicast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it (-1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ulticast_addr.sin_port          = htons (port_no_2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ulticastlen = sizeof (multicast_addr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endBytes = sendto (socks0, &amp;echostring [0], echostringlen, 0,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(struct sockaddr *) &amp;multicast_addr, multicastlen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B8FE-0226-4B7F-8BD4-1B267D2C304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server (6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roadcast_echo.c/stcp_multicast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Note - 1: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is server does not join a multicast group because it is only sending not receiv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ee stcp_mc_echo_client for an example of tha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A280-F319-42C3-8653-D854552CD8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UDP server (6)</a:t>
            </a:r>
            <a:br>
              <a:rPr sz="3200"/>
            </a:br>
            <a:r>
              <a:rPr b="1" lang="en-US" sz="2000" spc="-1" strike="noStrike">
                <a:solidFill>
                  <a:srgbClr val="f0ece4"/>
                </a:solidFill>
                <a:latin typeface="Tahoma"/>
              </a:rPr>
              <a:t>tcpos_broadcast_echo.c/stcp_multicast_echo.c</a:t>
            </a:r>
            <a:endParaRPr b="1" lang="en-US" sz="20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Note – 2: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dresses 224.0.0.0 thru 224.0.0.255 have local scope only – no router should forward them regardless of the TTL that you s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se addresses are reserv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Don’t use them for testing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224.0.252.0 thru 224.0.255.255 are currently (2004-01-09) unassign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http://www.iana.org/assignments/multicast-addresse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29B2-5C91-41AF-885F-5598C5A4A05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client 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c_echo_client.c/stcp_bc_echo_client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ame as stcp_echo_clien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Minu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he connection stuff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eed to change handling of e$caller_must_wait error from recvfrom to EAGAIN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Handle ECONNREFUSED error returned by sendto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f the server is not listening on defined port the first sendto results in the server sending back an ICMP port unreachable message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The second sendto gets a ECONNREFUSED error as a result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 choose to report it and continue so the effect is the same as the TCP_OS application which doesn’t report it.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stcp-1859 (fixed 14.7, 15.0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6A76-9650-4DA9-A83E-29A71925568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UDP client (2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tcpos_bc_echo_client.c/stcp_mc_echo_client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0000"/>
          </a:bodyPr>
          <a:p>
            <a:pPr marL="462960" indent="-462960">
              <a:lnSpc>
                <a:spcPct val="8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Changes need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923040" indent="-357120">
              <a:lnSpc>
                <a:spcPct val="8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ame changes as stcp_bc_echo_clien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923040" indent="-357120">
              <a:lnSpc>
                <a:spcPct val="8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Plu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339920" indent="-314280">
              <a:lnSpc>
                <a:spcPct val="8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d support for multicas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rguments for address of local interface to use and the multicast addres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Need to sanity address argument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t default multicast interfac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t the TTL for multicast message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create a multicast sock_addr structure for sendto to us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Join multicast group with IP_ADD_MEMBERSHIP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756080" indent="-31284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eed to create two sockets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4" marL="2160360" indent="-30132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One to send messages to server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4" marL="2160360" indent="-30132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One bound to multicast IP and receiving por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4" marL="2160360" indent="-301320">
              <a:lnSpc>
                <a:spcPct val="8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Will not be needed when stcp-1876 is fixed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41C1-9841-48D2-8EC7-9F79921D9D5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Multicast changes</a:t>
            </a:r>
            <a:br>
              <a:rPr sz="3200"/>
            </a:b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Joining multicast group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5000"/>
          </a:bodyPr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har  localIP [16]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char  multicastIP [16]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uct ip_mreq mreq;              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cpy (localIP, argv [2]);    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strcpy (multicastIP, argv [3]); 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req.imr_interface.s_addr = inet_addr (local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 (mreq.imr_interface.s_addr == -1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rintf ("mc_echo_client: localIP address argument %s is not an IP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address\n", multicast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it (-1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mreq.imr_multiaddr.s_addr = inet_addr (multicastIP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if (setsockopt (socks0, IPPROTO_IP, IP_ADD_MEMBERSHIP, (char *) &amp;mreq, sizeof(mreq)) == -1)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perror ("mc_echo_client: Error joining multicast group"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exit (errno);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  <a:p>
            <a:pPr marL="48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7a6744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40B2-FE78-4F41-9898-2EC422586D2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TCP server with greeting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his application sends a greeting after the accept return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here are three possible result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No error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ENOTCONN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Will need some kind of polling mechanism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Will happen if it takes time to get the final ACK back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I have seen this when the client is far away (Maynard) from the server (Phoenix)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3" marL="1951200" indent="-34776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Local connections seem to complete fast enough not to get this error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5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EIO or other error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Report the error and close down the socke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lnSpc>
                <a:spcPct val="90000"/>
              </a:lnSpc>
              <a:spcBef>
                <a:spcPts val="45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6744"/>
                </a:solidFill>
                <a:latin typeface="Tahoma"/>
              </a:rPr>
              <a:t>EIO will happen if there is no route back to the remote host</a:t>
            </a:r>
            <a:endParaRPr b="0" lang="en-US" sz="1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F991-43F9-41EE-ACA9-1C9E58A5CF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 with greeting (2)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sending greeting after accept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ocks [freeSocks] = accept (sd [0], ...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ocketWaitingToConnect [freeSocks] = 0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trcpy (msg, "Welcome to Noah's Echooooooo Serverrrrrrr\n"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endBytes = send (socks [freeSocks], msg, strlen (msg), 0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sendBytes &lt; 0)          /* problem sending greeting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errno == ENOTCONN)  /* not connected yet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ocketWaitingToConnect [freeSocks] = 1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else                     /* some other error, close down socket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perror ("echo: error sending greeting string"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close (socks [j]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clean-up-everything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 /* if (errno == ENOTCONN) -- else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 /* if (sendBytes &lt; 0)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52ED-8F38-438C-A96B-CEBC64729E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TCP server with greeting (3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I am not sure if you will ever get an ENOTCONN error from the recv call but I figure it can’t hurt to handle it.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Handle it by ignoring i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If a pending connection times out without ever getting connected (about 9.5 minutes) select will indicate that the socket is readable and when you go to read it recv will return -1 and errno will be EIO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9D9B-C1BB-4FF9-9F77-69ACED9DD36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 with greeting (4)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handling error on recv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recvBytes = recv (socks [j], . . .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recvBytes == -1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if (errno != ENOTCONN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sprintf (msg, "echo: . . .)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perror (msg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close (socks [j]);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clean-up-everything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 /* if (errno != ENOTCONN)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7a6744"/>
                </a:solidFill>
                <a:latin typeface="Courier New"/>
              </a:rPr>
              <a:t>} /* if (recvBytes == -1) */</a:t>
            </a: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D280-8AC4-454C-B1AF-8FD60191A14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get_socket_event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Originally not support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dded to compatibility librar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lways returned e$operation_not_supported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May still exist in some releases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Moved to standard STCP library and fixed  to work correctly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tcp-1588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Fixed in 14.2.4ad, 14.3.1as, 14.4.1ab, 14.5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Creates a “Fake OSTCP Socket Event” event in the process’s event table.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ee stcp_echo_client, stcp_bc_echo_client, stcp_mc_echo_client examples.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4CA6-D5D4-43AE-A92D-FAA17EAE2D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Non-blocking TCP server with greeting (5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The only way to tell when the connection is completed is to poll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When select times out I check the status of every socket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Sockets with a socketWaitingToConnect value greater than 0 have another greeting sen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A failure will increment the socketWaitingToConnect value.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lnSpc>
                <a:spcPct val="90000"/>
              </a:lnSpc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You can short circuit the 9.5 minute wait by closing the socket after this value reaches a predefined limit.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1" marL="1025640" indent="-397080">
              <a:lnSpc>
                <a:spcPct val="90000"/>
              </a:lnSpc>
              <a:spcBef>
                <a:spcPts val="499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You might want to poll every time select returns not just at a timeout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2C61-592B-44C4-95CB-AD5EDCB7753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52560" y="4373640"/>
            <a:ext cx="5878440" cy="1414440"/>
          </a:xfrm>
          <a:prstGeom prst="rect">
            <a:avLst/>
          </a:prstGeom>
          <a:solidFill>
            <a:srgbClr val="f0ece4"/>
          </a:solidFill>
          <a:ln w="9360">
            <a:solidFill>
              <a:srgbClr val="746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4674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 fontScale="97000"/>
          </a:bodyPr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socksSelected = select (nfds, &amp;fdsetR, (fd_set *) 0, (fd_set *) 0, &amp;timeout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socksSelected &gt; 0)</a:t>
            </a:r>
            <a:br>
              <a:rPr sz="1200"/>
            </a:b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socketWaitingToConnect [j] &gt; 0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strcpy (msg, “Thank you for connecting to . . .”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sendBytes = send (socks [j], msg, strlen (msg), 0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sendBytes &lt; 0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if (errno == ENOTCONN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socketWaitingToConnect [j]++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/* optional time out code here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if (socketWaitingToConnect [j] == 60)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printf ("echo:: Giving up waiting for a connection”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close (socks [j]);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clean-up-eveything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} /* if (socketWaitingToConnect [j] == 60) 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4674e"/>
                </a:solidFill>
                <a:latin typeface="Courier New"/>
              </a:rPr>
              <a:t>end optional timeout code */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} /* if (errno == ENOTCONN) */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} /* if (socketWaitingToConnect [j] &gt; 0) */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7a6744"/>
                </a:solidFill>
                <a:latin typeface="Courier New"/>
              </a:rPr>
              <a:t>} /* if (socksSelected &gt; 0) */</a:t>
            </a: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  <a:p>
            <a:pPr marL="49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 with greeting (6)</a:t>
            </a:r>
            <a:br>
              <a:rPr sz="2800"/>
            </a:b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polling at select timeout</a:t>
            </a:r>
            <a:endParaRPr b="1" lang="en-US" sz="2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8E2C-ECE1-4D63-9C34-C491275031F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ce4"/>
                </a:solidFill>
                <a:latin typeface="Tahoma"/>
              </a:rPr>
              <a:t>Non-blocking TCP server using transfer_socket (1)</a:t>
            </a:r>
            <a:br>
              <a:rPr sz="2800"/>
            </a:br>
            <a:r>
              <a:rPr b="1" lang="en-US" sz="1800" spc="-1" strike="noStrike">
                <a:solidFill>
                  <a:srgbClr val="f0ece4"/>
                </a:solidFill>
                <a:latin typeface="Tahoma"/>
              </a:rPr>
              <a:t>stcp_transferring_echo.c and stcp_receiving_echo.c</a:t>
            </a:r>
            <a:endParaRPr b="1" lang="en-US" sz="18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1 transferring_echo process listens for connections and transfers them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Multiple receiving_echo processes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How it work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Transferring_echo (tr) listening for connection, accepts it and transfers it using a UDP message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Receiving_echo (er) processes that are not handing a connection listen for the message, one gets it and responds back to tr. Then it closes its UDP socket until the connection terminates.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  <a:p>
            <a:pPr lvl="2" marL="1488960" indent="-349200">
              <a:spcBef>
                <a:spcPts val="499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6744"/>
                </a:solidFill>
                <a:latin typeface="Tahoma"/>
              </a:rPr>
              <a:t>Upon receiving a notification from an er, tr closes its copy of the socket. </a:t>
            </a:r>
            <a:endParaRPr b="0" lang="en-US" sz="20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01B4-81AF-439A-91E7-E7942719D2B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Questions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-1 / 1 = 1 / -1 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QRT (-1 / 1) = SQRT (1 / -1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QRT (-1) / SQRT(1) = SQRT (1) / SQRT (-1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i / 1 = 1 /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/ 2 = 1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/ 2 + 3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= 1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+ 3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/ 2 + 3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) =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( 1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+ 3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7a6744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/ 2 + (3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/ 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+ (3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 / (2</a:t>
            </a:r>
            <a:r>
              <a:rPr b="0" i="1" lang="en-US" sz="2400" spc="-1" strike="noStrike">
                <a:solidFill>
                  <a:srgbClr val="7a6744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(-1) / 2 + 3 / 2 = 1 / 2 + 3 / 2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1=2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8303-1B29-4305-93F4-56499A35E52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6880" y="307800"/>
            <a:ext cx="6445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ce4"/>
                </a:solidFill>
                <a:latin typeface="Tahoma"/>
              </a:rPr>
              <a:t>transfer/receive_socket (1)</a:t>
            </a:r>
            <a:endParaRPr b="1" lang="en-US" sz="3200" spc="-1" strike="noStrike">
              <a:solidFill>
                <a:srgbClr val="f0ece4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6520" y="1585440"/>
            <a:ext cx="7993080" cy="4956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Originally not supported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added to compatibility library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Always returned e$operation_not_supported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May still exist in some releases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d28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6744"/>
                </a:solidFill>
                <a:latin typeface="Tahoma"/>
              </a:rPr>
              <a:t>Moved to standard STCP library and fixed  to work correctly</a:t>
            </a:r>
            <a:endParaRPr b="0" lang="en-US" sz="2800" spc="-1" strike="noStrike">
              <a:solidFill>
                <a:srgbClr val="7a674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b12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stcp-178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09a72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6744"/>
                </a:solidFill>
                <a:latin typeface="Tahoma"/>
              </a:rPr>
              <a:t>Fixed in 14.6.0ax, 14.7. 15.0</a:t>
            </a:r>
            <a:endParaRPr b="0" lang="en-US" sz="2400" spc="-1" strike="noStrike">
              <a:solidFill>
                <a:srgbClr val="7a674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9D0C-C260-45B2-B19B-F957E5DB1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0:18:13Z</dcterms:created>
  <dc:creator>Noah Davids</dc:creator>
  <dc:description/>
  <dc:language>en-US</dc:language>
  <cp:lastModifiedBy>Customer Service</cp:lastModifiedBy>
  <cp:lastPrinted>2000-08-09T18:10:59Z</cp:lastPrinted>
  <dcterms:modified xsi:type="dcterms:W3CDTF">2004-03-11T17:38:47Z</dcterms:modified>
  <cp:revision>37</cp:revision>
  <dc:subject/>
  <dc:title>Slide 1</dc:title>
</cp:coreProperties>
</file>